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0A51427-4F7D-4130-BAE2-8CDC9ADBF75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3119FD3-8134-409B-AA2E-F55CA76E856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B7B0439-ABA5-44DF-92BB-DE461322EE4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7665D85-20AB-450C-BF89-6D5C5208107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9688808-1E70-4AF9-9766-2B5F9BE8A63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EDEA1E0-20E4-4879-ACBE-E18B835748D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CB2FE15-3121-4F1E-AC5A-F9E5BA3F730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00D1FE2-3044-45D6-9AF8-3CB005DD78F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16556F9-078A-410E-B283-6D01C584843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45093B0-74E0-43E8-A5AA-009B852B586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7DCFA5A-B152-4E3A-B1C6-C96A56C54D6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37E7467-42E5-46EB-874B-CCD24F27D38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42E-C788-45DD-BCD3-62EE7A54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3CB-B506-4B56-8CFA-4C177777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D74-18A6-46BD-A107-AEA52D12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513-2BB4-4447-A8A8-34520074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38F-7280-403B-96D1-85822669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A7D-CBDA-41BC-9DE3-79F9B13F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FC1-6A68-4BA1-ABA0-3D541D07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3FB-8400-40BF-B4CE-0BA2B8F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909-12A1-4E76-991E-149D4894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70F-0711-4139-9BFF-C928CE8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5D7-B510-41AF-87F5-4721E6EE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083-8205-4DC4-A54D-4FB9FC6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0366-A687-4314-B795-3E05FF883D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"/>
          <p:cNvSpPr/>
          <p:nvPr/>
        </p:nvSpPr>
        <p:spPr>
          <a:xfrm>
            <a:off x="-239760" y="-193680"/>
            <a:ext cx="9610920" cy="1174680"/>
          </a:xfrm>
          <a:prstGeom prst="rect">
            <a:avLst/>
          </a:prstGeom>
          <a:solidFill>
            <a:srgbClr val="a7a7a7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chutzringmitHand.png" descr="SchutzringmitHand.png"/>
          <p:cNvPicPr/>
          <p:nvPr/>
        </p:nvPicPr>
        <p:blipFill>
          <a:blip r:embed="rId2"/>
          <a:stretch/>
        </p:blipFill>
        <p:spPr>
          <a:xfrm>
            <a:off x="108000" y="792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3" name="Gerade Verbindung 8" descr=""/>
          <p:cNvPicPr/>
          <p:nvPr/>
        </p:nvPicPr>
        <p:blipFill>
          <a:blip r:embed="rId3"/>
          <a:stretch/>
        </p:blipFill>
        <p:spPr>
          <a:xfrm>
            <a:off x="2646360" y="152280"/>
            <a:ext cx="109440" cy="817560"/>
          </a:xfrm>
          <a:prstGeom prst="rect">
            <a:avLst/>
          </a:prstGeom>
          <a:ln w="0">
            <a:noFill/>
          </a:ln>
        </p:spPr>
      </p:pic>
      <p:sp>
        <p:nvSpPr>
          <p:cNvPr id="44" name="Rechteck"/>
          <p:cNvSpPr/>
          <p:nvPr/>
        </p:nvSpPr>
        <p:spPr>
          <a:xfrm>
            <a:off x="-165240" y="6381720"/>
            <a:ext cx="9610920" cy="785880"/>
          </a:xfrm>
          <a:prstGeom prst="rect">
            <a:avLst/>
          </a:prstGeom>
          <a:solidFill>
            <a:srgbClr val="a7a7a7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"/>
          <p:cNvSpPr/>
          <p:nvPr/>
        </p:nvSpPr>
        <p:spPr>
          <a:xfrm>
            <a:off x="-247680" y="981000"/>
            <a:ext cx="9610920" cy="368280"/>
          </a:xfrm>
          <a:prstGeom prst="rect">
            <a:avLst/>
          </a:prstGeom>
          <a:solidFill>
            <a:srgbClr val="e6e6e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hteck 11" descr=""/>
          <p:cNvPicPr/>
          <p:nvPr/>
        </p:nvPicPr>
        <p:blipFill>
          <a:blip r:embed="rId4"/>
          <a:stretch/>
        </p:blipFill>
        <p:spPr>
          <a:xfrm>
            <a:off x="1017720" y="139680"/>
            <a:ext cx="158580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2"/>
          <p:cNvSpPr/>
          <p:nvPr/>
        </p:nvSpPr>
        <p:spPr>
          <a:xfrm>
            <a:off x="7631280" y="6475320"/>
            <a:ext cx="16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475DCDE-FE1B-46B3-BE28-28604F16B40A}" type="slidenum"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/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9858498_gallery.jpg" descr="19858498_gallery.jpg"/>
          <p:cNvPicPr/>
          <p:nvPr/>
        </p:nvPicPr>
        <p:blipFill>
          <a:blip r:embed="rId1"/>
          <a:stretch/>
        </p:blipFill>
        <p:spPr>
          <a:xfrm>
            <a:off x="-1457280" y="-95400"/>
            <a:ext cx="12611160" cy="7048800"/>
          </a:xfrm>
          <a:prstGeom prst="rect">
            <a:avLst/>
          </a:prstGeom>
          <a:ln w="0">
            <a:noFill/>
          </a:ln>
        </p:spPr>
      </p:pic>
      <p:sp>
        <p:nvSpPr>
          <p:cNvPr id="94" name="Rechteck"/>
          <p:cNvSpPr/>
          <p:nvPr/>
        </p:nvSpPr>
        <p:spPr>
          <a:xfrm>
            <a:off x="-165240" y="-152280"/>
            <a:ext cx="9610920" cy="7365960"/>
          </a:xfrm>
          <a:prstGeom prst="rect">
            <a:avLst/>
          </a:prstGeom>
          <a:solidFill>
            <a:srgbClr val="53535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chutzringmitHand.png" descr="SchutzringmitHand.png"/>
          <p:cNvPicPr/>
          <p:nvPr/>
        </p:nvPicPr>
        <p:blipFill>
          <a:blip r:embed="rId2"/>
          <a:stretch/>
        </p:blipFill>
        <p:spPr>
          <a:xfrm>
            <a:off x="235080" y="1417680"/>
            <a:ext cx="3286080" cy="3284640"/>
          </a:xfrm>
          <a:prstGeom prst="rect">
            <a:avLst/>
          </a:prstGeom>
          <a:ln w="0">
            <a:noFill/>
          </a:ln>
          <a:effectLst>
            <a:outerShdw dist="11880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96" name="Titeltext"/>
          <p:cNvSpPr/>
          <p:nvPr/>
        </p:nvSpPr>
        <p:spPr>
          <a:xfrm>
            <a:off x="4435560" y="1986120"/>
            <a:ext cx="4727520" cy="2147760"/>
          </a:xfrm>
          <a:prstGeom prst="rect">
            <a:avLst/>
          </a:prstGeom>
          <a:noFill/>
          <a:ln w="0">
            <a:noFill/>
          </a:ln>
          <a:effectLst>
            <a:outerShdw dist="12287" dir="5097452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V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atthias Brandt…"/>
          <p:cNvSpPr/>
          <p:nvPr/>
        </p:nvSpPr>
        <p:spPr>
          <a:xfrm>
            <a:off x="4435560" y="4221000"/>
            <a:ext cx="251604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Vortra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Datum, 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12 Fo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9"/>
          <p:cNvSpPr/>
          <p:nvPr/>
        </p:nvSpPr>
        <p:spPr>
          <a:xfrm>
            <a:off x="324000" y="2565360"/>
            <a:ext cx="5924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halts- und Grundreinigung im gewohntem Leistungsumfang unter Anwendung der gewohnten Methoden und in den gewohnten Inter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fortige Desinfektion von Flächen nach Kontamination (Blut Erbrochenes, Fäz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ohnte Aufbereitung von Geschirr, Besteck, Wäsche, Pflegeutensilien und Medizinproduk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wie üblich entsor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(Steckbecken, Waschschalen etc.) sollen mögl. bewohnerbezogen verwende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2647440" y="125424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6248520" y="1454040"/>
            <a:ext cx="0" cy="449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5"/>
          <p:cNvSpPr/>
          <p:nvPr/>
        </p:nvSpPr>
        <p:spPr>
          <a:xfrm>
            <a:off x="6227640" y="2544840"/>
            <a:ext cx="292752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igung von Isolier-zimmern mögl. zum Schlu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senen Säcken verla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ussdesinfektion nach überstandener Erkrank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6"/>
          <p:cNvSpPr/>
          <p:nvPr/>
        </p:nvSpPr>
        <p:spPr>
          <a:xfrm>
            <a:off x="7241040" y="1009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extfeld 7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44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Umgebungshygien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light-sign-typography-lighting.jpg" descr="light-sign-typography-lighting.jpg"/>
          <p:cNvPicPr/>
          <p:nvPr/>
        </p:nvPicPr>
        <p:blipFill>
          <a:blip r:embed="rId1"/>
          <a:stretch/>
        </p:blipFill>
        <p:spPr>
          <a:xfrm>
            <a:off x="-108000" y="1004760"/>
            <a:ext cx="9252000" cy="537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QSED-Logos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27"/>
          <p:cNvSpPr/>
          <p:nvPr/>
        </p:nvSpPr>
        <p:spPr>
          <a:xfrm>
            <a:off x="199080" y="1547640"/>
            <a:ext cx="3222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Bedeutung der Flora"/>
          <p:cNvSpPr/>
          <p:nvPr/>
        </p:nvSpPr>
        <p:spPr>
          <a:xfrm>
            <a:off x="2844720" y="71280"/>
            <a:ext cx="5759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Inhaltsverzeich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9"/>
          <p:cNvSpPr/>
          <p:nvPr/>
        </p:nvSpPr>
        <p:spPr>
          <a:xfrm>
            <a:off x="468360" y="1484280"/>
            <a:ext cx="84726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chiedene Orthomyxoviren ausgelöst werden kann. Gefährdet sind vor allem alte Menschen, speziell in Alten- und Pflegehei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Inkubationsz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1 – 3 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nsteckungsdau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ympto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Diagno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hand der klinischen Sympt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herap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Präven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Übertrag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Tröpfchen aber auch durch Kontakte vor allem in den Wintermonaten. Influenza ist sehr leicht übertragbar, daher besteht die Gefahr von Infektionsausbrü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extfeld 6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02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Krankheitsbild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feld 4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0"/>
          <p:cNvSpPr/>
          <p:nvPr/>
        </p:nvSpPr>
        <p:spPr>
          <a:xfrm>
            <a:off x="179280" y="1547640"/>
            <a:ext cx="842508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RKI-Ratgeber für Ärz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1199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luenza (Teil 1): Erkrankungen durch saisonale Influenzaviren“ (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Kommission für Krankenhaushygiene und Infektionsprävention beim RKI (KRINK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1199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Niedersächsisches Landesgesundheitsam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kblatt Influenza“ (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7"/>
          <p:cNvSpPr/>
          <p:nvPr/>
        </p:nvSpPr>
        <p:spPr>
          <a:xfrm>
            <a:off x="179280" y="1547640"/>
            <a:ext cx="85694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llgemeine Maßnahmen (Basishygi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hygi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gebungshygi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gienegerechte Durchführung medizinisch-pflegerischer Maßna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-39240" y="3197160"/>
            <a:ext cx="5858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66"/>
                </a:solidFill>
                <a:latin typeface="Arial"/>
              </a:rPr>
              <a:t>Zusätzliche Maßnahmen (spezielle Hygi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parate Unterbringung erkrankter Bewo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nsivierung der Personal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nsivierung der Umgebungs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extfeld 6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Übersicht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2"/>
          <p:cNvSpPr/>
          <p:nvPr/>
        </p:nvSpPr>
        <p:spPr>
          <a:xfrm>
            <a:off x="7746480" y="148428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6"/>
          <p:cNvSpPr/>
          <p:nvPr/>
        </p:nvSpPr>
        <p:spPr>
          <a:xfrm>
            <a:off x="7810920" y="345744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273600" y="154764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37960" y="2852640"/>
            <a:ext cx="68709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Generell zu informier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 des pflegerischen und hauswirtschaftlichen Dien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70720" y="45086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Verlegungen und Transpor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Informationsmanagement und Transport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feld 6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221400" y="1547640"/>
            <a:ext cx="744192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feld 2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20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Informationsmanagement und Transport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9"/>
          <p:cNvSpPr/>
          <p:nvPr/>
        </p:nvSpPr>
        <p:spPr>
          <a:xfrm>
            <a:off x="324000" y="2565360"/>
            <a:ext cx="592452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dem Bewo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dem Bewo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der unmittelbaren Bewohner-Umge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647440" y="125424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4"/>
          <p:cNvSpPr/>
          <p:nvPr/>
        </p:nvSpPr>
        <p:spPr>
          <a:xfrm>
            <a:off x="6248520" y="1454040"/>
            <a:ext cx="0" cy="449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6300720" y="254484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7241040" y="1009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xtfeld 7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28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ersonalhygiene I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9"/>
          <p:cNvSpPr/>
          <p:nvPr/>
        </p:nvSpPr>
        <p:spPr>
          <a:xfrm>
            <a:off x="324000" y="2565360"/>
            <a:ext cx="59245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85480">
              <a:lnSpc>
                <a:spcPct val="90000"/>
              </a:lnSpc>
              <a:spcAft>
                <a:spcPts val="300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2647440" y="125424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3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4"/>
          <p:cNvSpPr/>
          <p:nvPr/>
        </p:nvSpPr>
        <p:spPr>
          <a:xfrm>
            <a:off x="6248520" y="1454040"/>
            <a:ext cx="0" cy="449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227640" y="2544840"/>
            <a:ext cx="29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70c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endung von zimmergebundenen, täglich zu wechselnden, langärmligen Schutz-kitteln und von Atem-schutzmasken (FFP2) schon bei Betreten des Zimm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7241040" y="1009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extfeld 7" descr=""/>
          <p:cNvPicPr/>
          <p:nvPr/>
        </p:nvPicPr>
        <p:blipFill>
          <a:blip r:embed="rId1"/>
          <a:stretch/>
        </p:blipFill>
        <p:spPr>
          <a:xfrm>
            <a:off x="225360" y="974880"/>
            <a:ext cx="8717040" cy="372960"/>
          </a:xfrm>
          <a:prstGeom prst="rect">
            <a:avLst/>
          </a:prstGeom>
          <a:ln w="0">
            <a:noFill/>
          </a:ln>
        </p:spPr>
      </p:pic>
      <p:sp>
        <p:nvSpPr>
          <p:cNvPr id="136" name="Bedeutung der Flora"/>
          <p:cNvSpPr/>
          <p:nvPr/>
        </p:nvSpPr>
        <p:spPr>
          <a:xfrm>
            <a:off x="277344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ersonalhygiene II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Brandt, K (mmb)</cp:lastModifiedBy>
  <dcterms:modified xsi:type="dcterms:W3CDTF">2018-01-24T09:53:30Z</dcterms:modified>
  <cp:revision>68</cp:revision>
  <dc:subject/>
  <dc:title>Kein Folientitel</dc:title>
</cp:coreProperties>
</file>