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4787DA6-8592-458D-986F-3A6ADD8E7502}" type="slidenum">
              <a:rPr b="0" lang="de-DE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1A6DB3-7A97-4478-9AD6-F39AC43321A8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E1DB21-C05E-4AD2-BAE4-B7A9388A38F4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3C9063A-AFDC-4791-995D-166887241EF7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58F1AEE-D481-4C64-82C3-B0E75BB014B7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E057BC-F73C-4346-AE48-3B371311DCBA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60AD00D-C5DB-4418-B141-227F775685E6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DF2D17-B565-4ABF-8199-4E38C09A6D40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3105BB-3C57-433D-9D73-36C23270DAFB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EFB5E3-A09B-4AF4-8813-40186E6971F0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AEF88B-D6D7-4C3D-ADDA-261A7BB63D2F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B5DFC8-A1B7-4E1E-A476-6CEE374E1458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058CA44-8291-4157-95AD-44B28AD6F16A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254B838-725A-43ED-93B5-2AF41A851450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D75D9D-0806-4DCD-B136-9DCDBE95BF2A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5A51937-2C91-4D45-A4B3-C878DDBA2C5C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959E36-1479-4C52-A841-6BBBEF0D19FC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602425-E3FD-485C-B114-FC594532E108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D43CBEE-C000-4523-9E56-2012B33DFE00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FC7B7F-9FD8-408C-91E9-90299CF54EF8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44641F-605B-490A-AAEE-FD54E1A082B2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B3E50E0-7764-4938-A33C-FEE7C957F504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3FB0FD3-E156-4D89-8857-2D9469FB6CFC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E226EA4-467D-4A49-958C-CAA3EC2D6585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155D-D3E1-4955-98F2-DB5EBD09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2F1-4E0F-4A0A-B1A9-CDE633CF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D7FF-1382-4A5C-A151-B77F6ADB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81DE-A3E2-4F11-9A66-64D41063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4691-E8BE-45E0-918A-EB4952FA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3650-4B04-42E4-9389-A63104F9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ED53-95CE-4970-81BC-08E29E4A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E424-61E5-49F3-803E-59CCD537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FA2A-DAA4-4231-A5EB-4E9D30AF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26F3-69F4-4EBE-8099-5C250BE0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34F3-4248-4827-99EA-7A1F2E54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ED5E-6AA5-4B46-88CD-521BC8BE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E75A-B4FD-4369-B4D3-CDCF8EAAAFD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9858498_gallery.jpg" descr="19858498_gallery.jpg"/>
          <p:cNvPicPr/>
          <p:nvPr/>
        </p:nvPicPr>
        <p:blipFill>
          <a:blip r:embed="rId2"/>
          <a:stretch/>
        </p:blipFill>
        <p:spPr>
          <a:xfrm>
            <a:off x="-1457280" y="-95400"/>
            <a:ext cx="12611160" cy="7048800"/>
          </a:xfrm>
          <a:prstGeom prst="rect">
            <a:avLst/>
          </a:prstGeom>
          <a:ln w="0">
            <a:noFill/>
          </a:ln>
        </p:spPr>
      </p:pic>
      <p:sp>
        <p:nvSpPr>
          <p:cNvPr id="42" name="Rechteck"/>
          <p:cNvSpPr/>
          <p:nvPr/>
        </p:nvSpPr>
        <p:spPr>
          <a:xfrm>
            <a:off x="-165240" y="-152280"/>
            <a:ext cx="9610920" cy="7365960"/>
          </a:xfrm>
          <a:prstGeom prst="rect">
            <a:avLst/>
          </a:prstGeom>
          <a:solidFill>
            <a:srgbClr val="53535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SchutzringmitHand.png" descr="SchutzringmitHand.png"/>
          <p:cNvPicPr/>
          <p:nvPr/>
        </p:nvPicPr>
        <p:blipFill>
          <a:blip r:embed="rId3"/>
          <a:stretch/>
        </p:blipFill>
        <p:spPr>
          <a:xfrm>
            <a:off x="235080" y="1417680"/>
            <a:ext cx="3286080" cy="3284640"/>
          </a:xfrm>
          <a:prstGeom prst="rect">
            <a:avLst/>
          </a:prstGeom>
          <a:ln w="0">
            <a:noFill/>
          </a:ln>
          <a:effectLst>
            <a:outerShdw dist="118800" dir="54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hteck"/>
          <p:cNvSpPr/>
          <p:nvPr/>
        </p:nvSpPr>
        <p:spPr>
          <a:xfrm>
            <a:off x="-239760" y="-193680"/>
            <a:ext cx="9610920" cy="1174680"/>
          </a:xfrm>
          <a:prstGeom prst="rect">
            <a:avLst/>
          </a:prstGeom>
          <a:solidFill>
            <a:srgbClr val="a7a7a7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hteck"/>
          <p:cNvSpPr/>
          <p:nvPr/>
        </p:nvSpPr>
        <p:spPr>
          <a:xfrm>
            <a:off x="-247680" y="981000"/>
            <a:ext cx="9610920" cy="368280"/>
          </a:xfrm>
          <a:prstGeom prst="rect">
            <a:avLst/>
          </a:prstGeom>
          <a:solidFill>
            <a:srgbClr val="e6e6e6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hteck"/>
          <p:cNvSpPr/>
          <p:nvPr/>
        </p:nvSpPr>
        <p:spPr>
          <a:xfrm>
            <a:off x="-165240" y="6381720"/>
            <a:ext cx="9610920" cy="785880"/>
          </a:xfrm>
          <a:prstGeom prst="rect">
            <a:avLst/>
          </a:prstGeom>
          <a:solidFill>
            <a:srgbClr val="a7a7a7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SchutzringmitHand.png" descr="SchutzringmitHand.png"/>
          <p:cNvPicPr/>
          <p:nvPr/>
        </p:nvPicPr>
        <p:blipFill>
          <a:blip r:embed="rId2"/>
          <a:stretch/>
        </p:blipFill>
        <p:spPr>
          <a:xfrm>
            <a:off x="108000" y="792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86" name="Rechteck 10" descr=""/>
          <p:cNvPicPr/>
          <p:nvPr/>
        </p:nvPicPr>
        <p:blipFill>
          <a:blip r:embed="rId3"/>
          <a:stretch/>
        </p:blipFill>
        <p:spPr>
          <a:xfrm>
            <a:off x="1279440" y="139680"/>
            <a:ext cx="1847880" cy="768240"/>
          </a:xfrm>
          <a:prstGeom prst="rect">
            <a:avLst/>
          </a:prstGeom>
          <a:ln w="0">
            <a:noFill/>
          </a:ln>
        </p:spPr>
      </p:pic>
      <p:pic>
        <p:nvPicPr>
          <p:cNvPr id="87" name="Gerade Verbindung 11" descr=""/>
          <p:cNvPicPr/>
          <p:nvPr/>
        </p:nvPicPr>
        <p:blipFill>
          <a:blip r:embed="rId4"/>
          <a:stretch/>
        </p:blipFill>
        <p:spPr>
          <a:xfrm>
            <a:off x="3219480" y="60480"/>
            <a:ext cx="109440" cy="817560"/>
          </a:xfrm>
          <a:prstGeom prst="rect">
            <a:avLst/>
          </a:prstGeom>
          <a:ln w="0">
            <a:noFill/>
          </a:ln>
        </p:spPr>
      </p:pic>
      <p:sp>
        <p:nvSpPr>
          <p:cNvPr id="88" name="Foliennummernplatzhalter 1"/>
          <p:cNvSpPr/>
          <p:nvPr/>
        </p:nvSpPr>
        <p:spPr>
          <a:xfrm>
            <a:off x="7308720" y="6391440"/>
            <a:ext cx="17668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ite </a:t>
            </a:r>
            <a:fld id="{AAE56C7A-A194-4DD7-A841-CF226701E24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/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inführung MRGN"/>
          <p:cNvSpPr/>
          <p:nvPr/>
        </p:nvSpPr>
        <p:spPr>
          <a:xfrm>
            <a:off x="3657600" y="1986120"/>
            <a:ext cx="5486400" cy="21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Prävention von Harnwegsinfekt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Matthias Brandt…"/>
          <p:cNvSpPr/>
          <p:nvPr/>
        </p:nvSpPr>
        <p:spPr>
          <a:xfrm>
            <a:off x="3743280" y="4367160"/>
            <a:ext cx="25164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  <a:ea typeface="Merriweather Regular"/>
              </a:rPr>
              <a:t>Vortrag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  <a:ea typeface="Merriweather Regular"/>
              </a:rPr>
              <a:t>Datum, 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  <a:ea typeface="Merriweather Regular"/>
              </a:rPr>
              <a:t>25 Fol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5"/>
          <p:cNvSpPr/>
          <p:nvPr/>
        </p:nvSpPr>
        <p:spPr>
          <a:xfrm>
            <a:off x="179280" y="1547640"/>
            <a:ext cx="8507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5856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zicht bzw. Limitierung der transurethralen Drain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5856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5856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wahl geeigneten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5856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eptisches Einlegen des Kath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5856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wendung und Beibehaltung eines geschlossenen Ableitungs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5856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meidung von Harnstau und Rückflu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5856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dizierter Wechsel von Katheter und Ableitungs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5856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meidung von Keimübertragungen bei Manipulationen am Katheter und am Ableitungs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5856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zicht auf obsolete Maßnah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Textfeld 3" descr=""/>
          <p:cNvPicPr/>
          <p:nvPr/>
        </p:nvPicPr>
        <p:blipFill>
          <a:blip r:embed="rId1"/>
          <a:stretch/>
        </p:blipFill>
        <p:spPr>
          <a:xfrm>
            <a:off x="-96840" y="974880"/>
            <a:ext cx="9844200" cy="372960"/>
          </a:xfrm>
          <a:prstGeom prst="rect">
            <a:avLst/>
          </a:prstGeom>
          <a:ln w="0">
            <a:noFill/>
          </a:ln>
        </p:spPr>
      </p:pic>
      <p:sp>
        <p:nvSpPr>
          <p:cNvPr id="288" name="Bedeutung der Flora"/>
          <p:cNvSpPr/>
          <p:nvPr/>
        </p:nvSpPr>
        <p:spPr>
          <a:xfrm>
            <a:off x="3421080" y="4428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Harndrain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WI-Präventionsstrategien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extfeld 3" descr=""/>
          <p:cNvPicPr/>
          <p:nvPr/>
        </p:nvPicPr>
        <p:blipFill>
          <a:blip r:embed="rId1"/>
          <a:stretch/>
        </p:blipFill>
        <p:spPr>
          <a:xfrm>
            <a:off x="-85680" y="974880"/>
            <a:ext cx="9826560" cy="372960"/>
          </a:xfrm>
          <a:prstGeom prst="rect">
            <a:avLst/>
          </a:prstGeom>
          <a:ln w="0">
            <a:noFill/>
          </a:ln>
        </p:spPr>
      </p:pic>
      <p:sp>
        <p:nvSpPr>
          <p:cNvPr id="290" name="Bedeutung der Flora"/>
          <p:cNvSpPr/>
          <p:nvPr/>
        </p:nvSpPr>
        <p:spPr>
          <a:xfrm>
            <a:off x="3421080" y="4428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Harndrain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gelwerke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0"/>
          <p:cNvSpPr/>
          <p:nvPr/>
        </p:nvSpPr>
        <p:spPr>
          <a:xfrm>
            <a:off x="179280" y="1547640"/>
            <a:ext cx="842508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67ebb"/>
                </a:solidFill>
                <a:latin typeface="Arial"/>
              </a:rPr>
              <a:t>Kommission für Krankenhaushygiene und Infektionsprävention beim RKI (KRINKO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ävention und Kontrolle Katheter-assoziierter Harnwegsinfektionen “ (20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1199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nfektionsprävention in Heimen“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67ebb"/>
                </a:solidFill>
                <a:latin typeface="Arial"/>
                <a:ea typeface="Arial"/>
              </a:rPr>
              <a:t>Arbeitskreis der wissenschaftlichen Fachgesellschaften (AWM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Leitlinine „Die Harndrainage“ 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"/>
          <p:cNvSpPr/>
          <p:nvPr/>
        </p:nvSpPr>
        <p:spPr>
          <a:xfrm>
            <a:off x="179280" y="1547640"/>
            <a:ext cx="8856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Katheterurin ist stets als kontaminiert anzusehen.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ede Manipulation an der Harnröhrenöffnung, dem Katheter oder dem Ableitungssystem birgt die Gefahr einer Keimübertragung. Da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5856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67ebb"/>
                </a:solidFill>
                <a:latin typeface="Arial"/>
                <a:ea typeface="Arial"/>
              </a:rPr>
              <a:t>Hygienische Händedesinfek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35856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Vor und nach dem Einlegen von Kathet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35856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Vor und nach Manipulationen am Katheter, Ableitungssystem oder Genit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35856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Nach jedem Kontakt mit Urin oder potentiell kontaminierten Gegenstä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35856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Nach dem Gebrauch von Schutzhandschuh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5856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67ebb"/>
                </a:solidFill>
                <a:latin typeface="Arial"/>
                <a:ea typeface="Arial"/>
              </a:rPr>
              <a:t>Keimarme Schutzhandschu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35856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Vor möglichem Kontakt mit Urin, Genitale, Katheter und Ableitungssystem (Intimpflege, Beutelentleerung, Katheterentfernung, Urinentnahme etc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5856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800" spc="-1" strike="noStrike">
                <a:solidFill>
                  <a:srgbClr val="067ebb"/>
                </a:solidFill>
                <a:latin typeface="Arial"/>
                <a:ea typeface="Arial"/>
              </a:rPr>
              <a:t>Sterile Handschu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35856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Bei allen aseptisch durchzuführenden Maßnahmen (Einlegen oder Wechseln des Katheters, Verband an der Insertionsstelle etc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5856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67ebb"/>
                </a:solidFill>
                <a:latin typeface="Arial"/>
                <a:ea typeface="Arial"/>
              </a:rPr>
              <a:t> </a:t>
            </a:r>
            <a:r>
              <a:rPr b="1" lang="de-DE" sz="1800" spc="-1" strike="noStrike">
                <a:solidFill>
                  <a:srgbClr val="067ebb"/>
                </a:solidFill>
                <a:latin typeface="Arial"/>
                <a:ea typeface="Arial"/>
              </a:rPr>
              <a:t>Schutzkitte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bei Vorhandensein multiresistenter Erre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35856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Textfeld 3" descr=""/>
          <p:cNvPicPr/>
          <p:nvPr/>
        </p:nvPicPr>
        <p:blipFill>
          <a:blip r:embed="rId1"/>
          <a:stretch/>
        </p:blipFill>
        <p:spPr>
          <a:xfrm>
            <a:off x="-36360" y="974880"/>
            <a:ext cx="9667800" cy="372960"/>
          </a:xfrm>
          <a:prstGeom prst="rect">
            <a:avLst/>
          </a:prstGeom>
          <a:ln w="0">
            <a:noFill/>
          </a:ln>
        </p:spPr>
      </p:pic>
      <p:sp>
        <p:nvSpPr>
          <p:cNvPr id="294" name="Bedeutung der Flora"/>
          <p:cNvSpPr/>
          <p:nvPr/>
        </p:nvSpPr>
        <p:spPr>
          <a:xfrm>
            <a:off x="3421080" y="4428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Basishyg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ändehygiene und PSA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5"/>
          <p:cNvSpPr/>
          <p:nvPr/>
        </p:nvSpPr>
        <p:spPr>
          <a:xfrm>
            <a:off x="179280" y="1547640"/>
            <a:ext cx="4267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th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urchmesser gemäß Harnröhrenöffnung (Arz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Latexkatheter bei Verweildau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&lt; 5 Tage und Ausschluss von Latexallerg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ilikonkatheter bei Verweildauer &gt; 5 Tage oder bei bestehender Latexall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e infektionspräventive Wirkung von beschichteten Kathetern ist nicht ausreichend bele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Object 6"/>
          <p:cNvGraphicFramePr/>
          <p:nvPr/>
        </p:nvGraphicFramePr>
        <p:xfrm>
          <a:off x="4932360" y="3546360"/>
          <a:ext cx="413388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3546360"/>
                    <a:ext cx="41338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Object 7"/>
          <p:cNvGraphicFramePr/>
          <p:nvPr/>
        </p:nvGraphicFramePr>
        <p:xfrm>
          <a:off x="4932360" y="2697120"/>
          <a:ext cx="4105440" cy="5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2697120"/>
                    <a:ext cx="410544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Text Box 8"/>
          <p:cNvSpPr/>
          <p:nvPr/>
        </p:nvSpPr>
        <p:spPr>
          <a:xfrm>
            <a:off x="4933800" y="270828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933800" y="371628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hteck 1"/>
          <p:cNvSpPr/>
          <p:nvPr/>
        </p:nvSpPr>
        <p:spPr>
          <a:xfrm>
            <a:off x="6811560" y="5950080"/>
            <a:ext cx="18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 © Fa. Asid Bon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Textfeld 13" descr=""/>
          <p:cNvPicPr/>
          <p:nvPr/>
        </p:nvPicPr>
        <p:blipFill>
          <a:blip r:embed="rId5"/>
          <a:stretch/>
        </p:blipFill>
        <p:spPr>
          <a:xfrm>
            <a:off x="-36360" y="974880"/>
            <a:ext cx="9698040" cy="372960"/>
          </a:xfrm>
          <a:prstGeom prst="rect">
            <a:avLst/>
          </a:prstGeom>
          <a:ln w="0">
            <a:noFill/>
          </a:ln>
        </p:spPr>
      </p:pic>
      <p:sp>
        <p:nvSpPr>
          <p:cNvPr id="304" name="Bedeutung der Flora"/>
          <p:cNvSpPr/>
          <p:nvPr/>
        </p:nvSpPr>
        <p:spPr>
          <a:xfrm>
            <a:off x="3421080" y="4428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Materialauswa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Katheterauswahl und -materialien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11" descr=""/>
          <p:cNvPicPr/>
          <p:nvPr/>
        </p:nvPicPr>
        <p:blipFill>
          <a:blip r:embed="rId1"/>
          <a:stretch/>
        </p:blipFill>
        <p:spPr>
          <a:xfrm>
            <a:off x="6300720" y="1700280"/>
            <a:ext cx="2216160" cy="1795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2" descr=""/>
          <p:cNvPicPr/>
          <p:nvPr/>
        </p:nvPicPr>
        <p:blipFill>
          <a:blip r:embed="rId2"/>
          <a:stretch/>
        </p:blipFill>
        <p:spPr>
          <a:xfrm>
            <a:off x="6156360" y="3552840"/>
            <a:ext cx="2687760" cy="210816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0"/>
          <p:cNvSpPr/>
          <p:nvPr/>
        </p:nvSpPr>
        <p:spPr>
          <a:xfrm>
            <a:off x="6298200" y="5834160"/>
            <a:ext cx="25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* © Fa. Asid Bonz   ** © Fa. Rüs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3"/>
          <p:cNvSpPr/>
          <p:nvPr/>
        </p:nvSpPr>
        <p:spPr>
          <a:xfrm>
            <a:off x="6302160" y="171288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4"/>
          <p:cNvSpPr/>
          <p:nvPr/>
        </p:nvSpPr>
        <p:spPr>
          <a:xfrm>
            <a:off x="6301800" y="3645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eck 6"/>
          <p:cNvSpPr/>
          <p:nvPr/>
        </p:nvSpPr>
        <p:spPr>
          <a:xfrm>
            <a:off x="179280" y="1547640"/>
            <a:ext cx="5761080" cy="31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r sterile, geschlossene Systeme verwe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lls eine Messung des Stundenurins erfolgen soll, muss des Ableitsystem eine Messvorrichtung ha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mobilen Bewohnern Beinbeutel bzw. Tag- und Nachtbeutel verwenden, bei immobilen Bettbeut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Verwendung eines Beinbeutels oder eines Tag- und Nachtbeutels ist  geeignete Bein-Fixierung notwendi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m die Fixierung aufbereiten zu können, muss zumindest eine zweite Fixierung vorhanden s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Textfeld 9" descr=""/>
          <p:cNvPicPr/>
          <p:nvPr/>
        </p:nvPicPr>
        <p:blipFill>
          <a:blip r:embed="rId3"/>
          <a:stretch/>
        </p:blipFill>
        <p:spPr>
          <a:xfrm>
            <a:off x="-36360" y="974880"/>
            <a:ext cx="9698040" cy="372960"/>
          </a:xfrm>
          <a:prstGeom prst="rect">
            <a:avLst/>
          </a:prstGeom>
          <a:ln w="0">
            <a:noFill/>
          </a:ln>
        </p:spPr>
      </p:pic>
      <p:sp>
        <p:nvSpPr>
          <p:cNvPr id="312" name="Bedeutung der Flora"/>
          <p:cNvSpPr/>
          <p:nvPr/>
        </p:nvSpPr>
        <p:spPr>
          <a:xfrm>
            <a:off x="3421080" y="4428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Materialauswa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Ableitsysteme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4"/>
          <p:cNvSpPr/>
          <p:nvPr/>
        </p:nvSpPr>
        <p:spPr>
          <a:xfrm>
            <a:off x="179280" y="1547640"/>
            <a:ext cx="464832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lnSpc>
                <a:spcPct val="90000"/>
              </a:lnSpc>
              <a:spcBef>
                <a:spcPts val="400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70c0"/>
                </a:solidFill>
                <a:latin typeface="Arial"/>
              </a:rPr>
              <a:t>Patientenunterlage (Bettschut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70c0"/>
                </a:solidFill>
                <a:latin typeface="Arial"/>
              </a:rPr>
              <a:t>Antiseptik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70c0"/>
                </a:solidFill>
                <a:latin typeface="Arial"/>
              </a:rPr>
              <a:t>Abwurfbeu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Katheter / Ableit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2 Paar sterile Handschu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Sterile Unterlage (für sterile Fläc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Abdecktuch (Sicherung der Asep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4 – 6 Rolltupfer (Dekonta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Gleitmittel (z.B. Tube mit Aufsat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1 Spritze mit Blockiermittel (steriles Wasser-Glycerin-Gemis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Evtl. 10 ml-Spritze zur Entblockung (bei Wechs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Evtl. Plastiksch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00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Evtl. Pinz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15"/>
          <p:cNvGrpSpPr/>
          <p:nvPr/>
        </p:nvGrpSpPr>
        <p:grpSpPr>
          <a:xfrm>
            <a:off x="4788000" y="1557360"/>
            <a:ext cx="1429560" cy="843120"/>
            <a:chOff x="4788000" y="1557360"/>
            <a:chExt cx="1429560" cy="843120"/>
          </a:xfrm>
        </p:grpSpPr>
        <p:sp>
          <p:nvSpPr>
            <p:cNvPr id="315" name="AutoShape 16"/>
            <p:cNvSpPr/>
            <p:nvPr/>
          </p:nvSpPr>
          <p:spPr>
            <a:xfrm>
              <a:off x="4788000" y="1557360"/>
              <a:ext cx="304920" cy="8431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1960 h 843120"/>
                <a:gd name="textAreaBottom" fmla="*/ 821160 h 84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17"/>
            <p:cNvSpPr/>
            <p:nvPr/>
          </p:nvSpPr>
          <p:spPr>
            <a:xfrm>
              <a:off x="5215320" y="176796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3333cc"/>
                  </a:solidFill>
                  <a:latin typeface="Arial"/>
                </a:rPr>
                <a:t>unster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18"/>
          <p:cNvGrpSpPr/>
          <p:nvPr/>
        </p:nvGrpSpPr>
        <p:grpSpPr>
          <a:xfrm>
            <a:off x="4788000" y="2455920"/>
            <a:ext cx="1146600" cy="3494160"/>
            <a:chOff x="4788000" y="2455920"/>
            <a:chExt cx="1146600" cy="3494160"/>
          </a:xfrm>
        </p:grpSpPr>
        <p:sp>
          <p:nvSpPr>
            <p:cNvPr id="318" name="AutoShape 19"/>
            <p:cNvSpPr/>
            <p:nvPr/>
          </p:nvSpPr>
          <p:spPr>
            <a:xfrm>
              <a:off x="4788000" y="2455920"/>
              <a:ext cx="304920" cy="34941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91080 h 3494160"/>
                <a:gd name="textAreaBottom" fmla="*/ 3403080 h 349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2980"/>
                  </a:lnTo>
                  <a:cubicBezTo>
                    <a:pt x="10800" y="3880"/>
                    <a:pt x="16200" y="4780"/>
                    <a:pt x="21600" y="4780"/>
                  </a:cubicBezTo>
                  <a:cubicBezTo>
                    <a:pt x="16200" y="4780"/>
                    <a:pt x="10800" y="5680"/>
                    <a:pt x="10800" y="658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20"/>
            <p:cNvSpPr/>
            <p:nvPr/>
          </p:nvSpPr>
          <p:spPr>
            <a:xfrm>
              <a:off x="5216040" y="303804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e60029"/>
                  </a:solidFill>
                  <a:latin typeface="Arial"/>
                </a:rPr>
                <a:t>ster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 Box 21"/>
          <p:cNvSpPr/>
          <p:nvPr/>
        </p:nvSpPr>
        <p:spPr>
          <a:xfrm>
            <a:off x="5708520" y="4221000"/>
            <a:ext cx="2927520" cy="1816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ts bieten Handhabungs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teile, jedo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schiedlich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sammenstel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rechnungsprobl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Textfeld 10" descr=""/>
          <p:cNvPicPr/>
          <p:nvPr/>
        </p:nvPicPr>
        <p:blipFill>
          <a:blip r:embed="rId1"/>
          <a:stretch/>
        </p:blipFill>
        <p:spPr>
          <a:xfrm>
            <a:off x="-36360" y="974880"/>
            <a:ext cx="9698040" cy="372960"/>
          </a:xfrm>
          <a:prstGeom prst="rect">
            <a:avLst/>
          </a:prstGeom>
          <a:ln w="0">
            <a:noFill/>
          </a:ln>
        </p:spPr>
      </p:pic>
      <p:sp>
        <p:nvSpPr>
          <p:cNvPr id="322" name="Bedeutung der Flora"/>
          <p:cNvSpPr/>
          <p:nvPr/>
        </p:nvSpPr>
        <p:spPr>
          <a:xfrm>
            <a:off x="3421080" y="4428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Legen transurethraler Kath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Materialzusammenstellung und -aufteilung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2"/>
          <p:cNvSpPr/>
          <p:nvPr/>
        </p:nvSpPr>
        <p:spPr>
          <a:xfrm>
            <a:off x="179280" y="1547640"/>
            <a:ext cx="410544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rsönliche Vorberei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bereitung des Pati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bereitung des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deckung des Geni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kontamination des Geni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plikation des Gleitmitt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legen des Kath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üllen des Blockierungsball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s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4419720" y="1484280"/>
            <a:ext cx="4495680" cy="28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Durchführung sollte möglich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 zweit erfol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5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sistenz reicht Materialien a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d betreut Patien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5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chführender hat weniger Problem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 der Wahrung der Asep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5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sere Abfolge der Durchfüh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5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abdingbar bei unkooperativ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Personen (z.B. Demenz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Textfeld 4" descr=""/>
          <p:cNvPicPr/>
          <p:nvPr/>
        </p:nvPicPr>
        <p:blipFill>
          <a:blip r:embed="rId1"/>
          <a:stretch/>
        </p:blipFill>
        <p:spPr>
          <a:xfrm>
            <a:off x="-36360" y="974880"/>
            <a:ext cx="9698040" cy="372960"/>
          </a:xfrm>
          <a:prstGeom prst="rect">
            <a:avLst/>
          </a:prstGeom>
          <a:ln w="0">
            <a:noFill/>
          </a:ln>
        </p:spPr>
      </p:pic>
      <p:sp>
        <p:nvSpPr>
          <p:cNvPr id="326" name="Bedeutung der Flora"/>
          <p:cNvSpPr/>
          <p:nvPr/>
        </p:nvSpPr>
        <p:spPr>
          <a:xfrm>
            <a:off x="3421080" y="4428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Legen transurethraler Kath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Durchführungsschritte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179280" y="1547640"/>
            <a:ext cx="842508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ägliche Inspektion der Harndrain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58920">
              <a:lnSpc>
                <a:spcPct val="90000"/>
              </a:lnSpc>
              <a:spcBef>
                <a:spcPts val="300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Lokale Entzündung des Meatus, Hautveränderungen, Sekretbildu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58920">
              <a:lnSpc>
                <a:spcPct val="90000"/>
              </a:lnSpc>
              <a:spcBef>
                <a:spcPts val="300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Beschaffenheit des Katheters, Verkrustung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58920">
              <a:lnSpc>
                <a:spcPct val="90000"/>
              </a:lnSpc>
              <a:spcBef>
                <a:spcPts val="300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Urinbeschaffenheit, -farbe, ggf. Geru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58920">
              <a:lnSpc>
                <a:spcPct val="90000"/>
              </a:lnSpc>
              <a:spcBef>
                <a:spcPts val="300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Wohlbefinden bzw. Beschwerd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58920">
              <a:lnSpc>
                <a:spcPct val="90000"/>
              </a:lnSpc>
              <a:spcBef>
                <a:spcPts val="300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Korrekte Position des Auffangbeutels, Abknickung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bezug der Harndrainage in die tägliche Körperpf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58920">
              <a:lnSpc>
                <a:spcPct val="90000"/>
              </a:lnSpc>
              <a:spcBef>
                <a:spcPts val="300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Bei Stuhlinkontinenz vorher Intimpflege. Danach Händedesinfektion, neue Schutzhandschuhe, neuer Lap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58920">
              <a:lnSpc>
                <a:spcPct val="90000"/>
              </a:lnSpc>
              <a:spcBef>
                <a:spcPts val="300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m Zuge der Ganzwaschung, des Duschens etc. Reinigung des Katheters distal des Meatus mit Wasser und Waschlotion. Frischen Lappen verwenden, frische Schutzhandschuhe tragen. Kein Zug ausü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58920">
              <a:lnSpc>
                <a:spcPct val="90000"/>
              </a:lnSpc>
              <a:spcBef>
                <a:spcPts val="300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nkrustrationen möglichst mit Wasser und Waschlotion vorsichtig ablösen. Wasserstoffperoxid 3% besser meiden, kann schmerzhaft s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58920">
              <a:lnSpc>
                <a:spcPct val="90000"/>
              </a:lnSpc>
              <a:spcBef>
                <a:spcPts val="300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Belassene Feuchtigkeit oder Salbenrückstände in Meatusnähe vermeiden, da Mazerationsgef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Textfeld 3" descr=""/>
          <p:cNvPicPr/>
          <p:nvPr/>
        </p:nvPicPr>
        <p:blipFill>
          <a:blip r:embed="rId1"/>
          <a:stretch/>
        </p:blipFill>
        <p:spPr>
          <a:xfrm>
            <a:off x="-36360" y="974880"/>
            <a:ext cx="9698040" cy="372960"/>
          </a:xfrm>
          <a:prstGeom prst="rect">
            <a:avLst/>
          </a:prstGeom>
          <a:ln w="0">
            <a:noFill/>
          </a:ln>
        </p:spPr>
      </p:pic>
      <p:sp>
        <p:nvSpPr>
          <p:cNvPr id="329" name="Bedeutung der Flora"/>
          <p:cNvSpPr/>
          <p:nvPr/>
        </p:nvSpPr>
        <p:spPr>
          <a:xfrm>
            <a:off x="3421080" y="4428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Transurethrale Kath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Pflegerischer Umgang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179280" y="1547640"/>
            <a:ext cx="8425080" cy="22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chsel von transurethralen Kathetern möglichst nur auf Veranlassung (Materialschäden, Obstruktion etc.) unter gleichen Bedingungen wie beim Einle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jedem Wechsel die Notwendigkeit der Beibehaltung der Harndrainage kritisch hinterfra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problemlose Verweildauer von 2 – 4 Wochen kann erwartet werd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Katheterwechsel sollte nicht obligat mit einer Steigerung des Katheterdurchmessers einhergeh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Textfeld 3" descr=""/>
          <p:cNvPicPr/>
          <p:nvPr/>
        </p:nvPicPr>
        <p:blipFill>
          <a:blip r:embed="rId1"/>
          <a:stretch/>
        </p:blipFill>
        <p:spPr>
          <a:xfrm>
            <a:off x="-36360" y="974880"/>
            <a:ext cx="9698040" cy="372960"/>
          </a:xfrm>
          <a:prstGeom prst="rect">
            <a:avLst/>
          </a:prstGeom>
          <a:ln w="0">
            <a:noFill/>
          </a:ln>
        </p:spPr>
      </p:pic>
      <p:sp>
        <p:nvSpPr>
          <p:cNvPr id="332" name="Bedeutung der Flora"/>
          <p:cNvSpPr/>
          <p:nvPr/>
        </p:nvSpPr>
        <p:spPr>
          <a:xfrm>
            <a:off x="3421080" y="4428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Transurethrale Kath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Wechsel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179280" y="1547640"/>
            <a:ext cx="8353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rgfältige Abwägung: Suprapubische Drainage vs. Inkontinenzsystem oder Kondomkathe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gang des Einlegens (aseptisch durchzuführender ärztlicher Eingriff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er Katheter wird unter aseptischen Bedingungen mittels einer Hohlnadel durch die Bauchdecke in die gefüllte Harnblase eingefüh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as Herausrutschen wird durch spezielle Konstruktion des Katheters verhinde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e Ableitung des Urins erfolgt wie bei transurethralen Kathetern über ein geschlossene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Wechsel sollte möglichst nicht nach starren Vorgeben, sondern auf Veranlassung (z. B. bei Abflussstörungen) erfol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Textfeld 3" descr=""/>
          <p:cNvPicPr/>
          <p:nvPr/>
        </p:nvPicPr>
        <p:blipFill>
          <a:blip r:embed="rId1"/>
          <a:stretch/>
        </p:blipFill>
        <p:spPr>
          <a:xfrm>
            <a:off x="-36360" y="974880"/>
            <a:ext cx="9704160" cy="372960"/>
          </a:xfrm>
          <a:prstGeom prst="rect">
            <a:avLst/>
          </a:prstGeom>
          <a:ln w="0">
            <a:noFill/>
          </a:ln>
        </p:spPr>
      </p:pic>
      <p:sp>
        <p:nvSpPr>
          <p:cNvPr id="335" name="Bedeutung der Flora"/>
          <p:cNvSpPr/>
          <p:nvPr/>
        </p:nvSpPr>
        <p:spPr>
          <a:xfrm>
            <a:off x="3421080" y="4428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Suprapubische Kath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Einlegen und Wechsel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27"/>
          <p:cNvSpPr/>
          <p:nvPr/>
        </p:nvSpPr>
        <p:spPr>
          <a:xfrm>
            <a:off x="207720" y="1547640"/>
            <a:ext cx="4619520" cy="21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8920" indent="-358920"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legen transurethraler Kath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mgang mit suprapubischen Drain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mgang mit Ableitungssyste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Bedeutung der Flora"/>
          <p:cNvSpPr/>
          <p:nvPr/>
        </p:nvSpPr>
        <p:spPr>
          <a:xfrm>
            <a:off x="3421080" y="7128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Inhaltsverzeichnis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5"/>
          <p:cNvSpPr/>
          <p:nvPr/>
        </p:nvSpPr>
        <p:spPr>
          <a:xfrm>
            <a:off x="179280" y="1547640"/>
            <a:ext cx="838224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ägliche Inspektion der Insertionsstelle und des Drainagesyst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instichstelle gerötet, geschwollen, blutend, sekretieren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Beschaffenheit des Katheters, Abknickungen, Verkrustung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Urinbeschaffenheit, -farbe, ggf. Geru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Wohlbefinden bzw. Beschwerden des Bewohn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osition des Auffangbeutels, Abknickun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eptisch durchgeführter Verbandwechsel ärztlicherseits oder durch ausgebildetes Personal in den ersten 2 – 4 Tagen. Danach ist normalerweise kein Verband notwendi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bezug der Harndrainage in die tägliche Körperpf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m Zuge der Ganzwaschung, des Duschens etc. Reinigung des Katheters distal der Isertionsstelle mit Wasser und Waschlotion. Frischen Lappen verwenden, frische Schutzhandschuhe tragen. Kein Zug ausü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Textfeld 3" descr=""/>
          <p:cNvPicPr/>
          <p:nvPr/>
        </p:nvPicPr>
        <p:blipFill>
          <a:blip r:embed="rId1"/>
          <a:stretch/>
        </p:blipFill>
        <p:spPr>
          <a:xfrm>
            <a:off x="-36360" y="974880"/>
            <a:ext cx="9704160" cy="372960"/>
          </a:xfrm>
          <a:prstGeom prst="rect">
            <a:avLst/>
          </a:prstGeom>
          <a:ln w="0">
            <a:noFill/>
          </a:ln>
        </p:spPr>
      </p:pic>
      <p:sp>
        <p:nvSpPr>
          <p:cNvPr id="338" name="Bedeutung der Flora"/>
          <p:cNvSpPr/>
          <p:nvPr/>
        </p:nvSpPr>
        <p:spPr>
          <a:xfrm>
            <a:off x="3421080" y="4428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Suprapubische Kath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Pflegerischer Umgang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6" descr="Abb 9-6"/>
          <p:cNvPicPr/>
          <p:nvPr/>
        </p:nvPicPr>
        <p:blipFill>
          <a:blip r:embed="rId1"/>
          <a:stretch/>
        </p:blipFill>
        <p:spPr>
          <a:xfrm>
            <a:off x="5726160" y="1547640"/>
            <a:ext cx="3166920" cy="446436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5"/>
          <p:cNvSpPr/>
          <p:nvPr/>
        </p:nvSpPr>
        <p:spPr>
          <a:xfrm>
            <a:off x="179280" y="1547640"/>
            <a:ext cx="554508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 Diskonnektionen als Hauptursache für exogene Übertragungen gelten, sollen nur geschlossene Systeme verwendet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rkma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358920">
              <a:lnSpc>
                <a:spcPct val="90000"/>
              </a:lnSpc>
              <a:spcBef>
                <a:spcPts val="300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ine Rücklaufsperre (F) verhindert ein Zurücklaufen des Uri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358920">
              <a:lnSpc>
                <a:spcPct val="90000"/>
              </a:lnSpc>
              <a:spcBef>
                <a:spcPts val="300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in Ablassschlauch (H) erlaubt die Entleerung ohne Diskonnek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358920">
              <a:lnSpc>
                <a:spcPct val="90000"/>
              </a:lnSpc>
              <a:spcBef>
                <a:spcPts val="300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ine Entnahmestelle (B) erlaubt die Urinentnahme ohne Diskonnek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Idealfall bleibt der Katheter mit dem Ableitsystem so lange fest verbunden, bis der Katheter entfernt oder gewechselt wi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lls Diskonnektion unvermeidlich: vor und nach dem Zusammenstecken den Konus des Systems und den Anschluss des Katheters mit alkoholi-schem Hautdesinfektionsmittel desinfizi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Textfeld 4" descr=""/>
          <p:cNvPicPr/>
          <p:nvPr/>
        </p:nvPicPr>
        <p:blipFill>
          <a:blip r:embed="rId2"/>
          <a:stretch/>
        </p:blipFill>
        <p:spPr>
          <a:xfrm>
            <a:off x="-36360" y="974880"/>
            <a:ext cx="9180360" cy="372960"/>
          </a:xfrm>
          <a:prstGeom prst="rect">
            <a:avLst/>
          </a:prstGeom>
          <a:ln w="0">
            <a:noFill/>
          </a:ln>
        </p:spPr>
      </p:pic>
      <p:sp>
        <p:nvSpPr>
          <p:cNvPr id="342" name="Bedeutung der Flora"/>
          <p:cNvSpPr/>
          <p:nvPr/>
        </p:nvSpPr>
        <p:spPr>
          <a:xfrm>
            <a:off x="3421080" y="4428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Harnableitungssyt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Merkmale und Anforderungen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4"/>
          <p:cNvSpPr/>
          <p:nvPr/>
        </p:nvSpPr>
        <p:spPr>
          <a:xfrm>
            <a:off x="187200" y="1547640"/>
            <a:ext cx="487692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stauter bakterienhaltiger Urin wirkt infektionsfördernd. Daher soll bei liegendem Katheter Harnstau vermieden wer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358920">
              <a:lnSpc>
                <a:spcPct val="90000"/>
              </a:lnSpc>
              <a:spcBef>
                <a:spcPts val="300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uffangbeutel stets unter Blaseniveau ohne Bodenkontakt, Rückfluss von Urin vermei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358920">
              <a:lnSpc>
                <a:spcPct val="90000"/>
              </a:lnSpc>
              <a:spcBef>
                <a:spcPts val="300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Keine Abknickungen, kein Blasentra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358920">
              <a:lnSpc>
                <a:spcPct val="90000"/>
              </a:lnSpc>
              <a:spcBef>
                <a:spcPts val="300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Beutel entleeren, bevor Harn mit Rückflusssperre (F) in Kontakt komm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m Entleeren des Beute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358920">
              <a:lnSpc>
                <a:spcPct val="90000"/>
              </a:lnSpc>
              <a:spcBef>
                <a:spcPts val="300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inmalhandschuhe und  Spritzschutz (z.B. Zeitungsblatt) verwe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358920">
              <a:lnSpc>
                <a:spcPct val="90000"/>
              </a:lnSpc>
              <a:spcBef>
                <a:spcPts val="300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blassschlauch (H) vor Zurückstecken abtropfen lassen und desinfizi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Textfeld 4" descr=""/>
          <p:cNvPicPr/>
          <p:nvPr/>
        </p:nvPicPr>
        <p:blipFill>
          <a:blip r:embed="rId1"/>
          <a:stretch/>
        </p:blipFill>
        <p:spPr>
          <a:xfrm>
            <a:off x="-36360" y="974880"/>
            <a:ext cx="9180360" cy="372960"/>
          </a:xfrm>
          <a:prstGeom prst="rect">
            <a:avLst/>
          </a:prstGeom>
          <a:ln w="0">
            <a:noFill/>
          </a:ln>
        </p:spPr>
      </p:pic>
      <p:sp>
        <p:nvSpPr>
          <p:cNvPr id="345" name="Bedeutung der Flora"/>
          <p:cNvSpPr/>
          <p:nvPr/>
        </p:nvSpPr>
        <p:spPr>
          <a:xfrm>
            <a:off x="3421080" y="4428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Harnableitungssyt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Pflegerischer Umgang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6" descr="Abb 9-6"/>
          <p:cNvPicPr/>
          <p:nvPr/>
        </p:nvPicPr>
        <p:blipFill>
          <a:blip r:embed="rId2"/>
          <a:stretch/>
        </p:blipFill>
        <p:spPr>
          <a:xfrm>
            <a:off x="5726160" y="1547640"/>
            <a:ext cx="3166920" cy="4464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179280" y="1547640"/>
            <a:ext cx="8425080" cy="25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utinemäßige, „prophylaktische“ Instillationen und Spül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asentraining“ (zeitweises Abklemmen des Kathe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theterblockung mit Luft, Kochsalzlösung oder Trinkwas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inuntersuchungen, Keimzahl- und Keimbestimmungen ohne Indik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tibiose bei Kolonis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utinemäßiger Gebrauch antiseptischer Substanzen im Rahmen der „Katheterpflege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chsel des Katheters oder des Ableitungssystems nach festen Interva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Textfeld 3" descr=""/>
          <p:cNvPicPr/>
          <p:nvPr/>
        </p:nvPicPr>
        <p:blipFill>
          <a:blip r:embed="rId1"/>
          <a:stretch/>
        </p:blipFill>
        <p:spPr>
          <a:xfrm>
            <a:off x="-36360" y="974880"/>
            <a:ext cx="9624960" cy="372960"/>
          </a:xfrm>
          <a:prstGeom prst="rect">
            <a:avLst/>
          </a:prstGeom>
          <a:ln w="0">
            <a:noFill/>
          </a:ln>
        </p:spPr>
      </p:pic>
      <p:sp>
        <p:nvSpPr>
          <p:cNvPr id="349" name="Bedeutung der Flora"/>
          <p:cNvSpPr/>
          <p:nvPr/>
        </p:nvSpPr>
        <p:spPr>
          <a:xfrm>
            <a:off x="3421080" y="4428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Obsolete Maßnahmen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4"/>
          <p:cNvSpPr/>
          <p:nvPr/>
        </p:nvSpPr>
        <p:spPr>
          <a:xfrm>
            <a:off x="1432440" y="1415880"/>
            <a:ext cx="640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Vielen Dank fü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Ihre Aufmerksamkei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2286000" y="3398760"/>
            <a:ext cx="45453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Diskuss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Anreg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light-sign-typography-lighting.jpg" descr="light-sign-typography-lighting.jpg"/>
          <p:cNvPicPr/>
          <p:nvPr/>
        </p:nvPicPr>
        <p:blipFill>
          <a:blip r:embed="rId1"/>
          <a:stretch/>
        </p:blipFill>
        <p:spPr>
          <a:xfrm>
            <a:off x="-108000" y="1004760"/>
            <a:ext cx="9252000" cy="5376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4"/>
          <p:cNvSpPr/>
          <p:nvPr/>
        </p:nvSpPr>
        <p:spPr>
          <a:xfrm>
            <a:off x="206280" y="1547640"/>
            <a:ext cx="77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se Schulungsdatei wird Ihnen als teilnehmende Einrichtung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EurSafety Health-net Qualitäts- und Transparenzsiege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ür betriebsintern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ulungen zur Verfügung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stellt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Aussagen beziehen sich auf die Richtlinie „HWI-Prävention“ (QZ 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zu dieser Datei gehörenden Textpassagen und Abbildungen dürfen Si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Rahmen de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EurSafety Health-net Qualitäts- und Transparenzsiegel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n frei editieren, ergänzen und in Ihre Schulungsunterlagen überneh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5" descr="QSED-Logos"/>
          <p:cNvPicPr/>
          <p:nvPr/>
        </p:nvPicPr>
        <p:blipFill>
          <a:blip r:embed="rId1"/>
          <a:stretch/>
        </p:blipFill>
        <p:spPr>
          <a:xfrm>
            <a:off x="826920" y="4653000"/>
            <a:ext cx="7629840" cy="1619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08000" y="1413000"/>
          <a:ext cx="8928000" cy="4870440"/>
        </p:xfrm>
        <a:graphic>
          <a:graphicData uri="http://schemas.openxmlformats.org/drawingml/2006/table">
            <a:tbl>
              <a:tblPr/>
              <a:tblGrid>
                <a:gridCol w="2663640"/>
                <a:gridCol w="6264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ßnah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67eb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katio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67ebb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urethrale Einmalkatheterisier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ingewinnung zur Diagnostik (u.a. Restharnbestimmun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nreten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urethrale intermittierende Katheterisier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senentleerung bei Spina bifida oder Querschnittslähm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urethrale Dauerkatheterisier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operat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stand nach TUR-Prost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senentleerstörungen (außer Harninkontinen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nröhrenstrikt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sentumo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ndenurin-Mess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llation von Medikamenten in die Harnbl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8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rapubische Harnableit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 bevorzugen wenn Harndrainage &gt;5 Tage erfolgen sol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senentleerstörungen (außer Harninkontinen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nröhrenstrikt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ndenurin-Mess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llation von Medikamenten in die Harnbl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" name="Textfeld 4" descr=""/>
          <p:cNvPicPr/>
          <p:nvPr/>
        </p:nvPicPr>
        <p:blipFill>
          <a:blip r:embed="rId1"/>
          <a:stretch/>
        </p:blipFill>
        <p:spPr>
          <a:xfrm>
            <a:off x="-96840" y="974880"/>
            <a:ext cx="9844200" cy="372960"/>
          </a:xfrm>
          <a:prstGeom prst="rect">
            <a:avLst/>
          </a:prstGeom>
          <a:ln w="0">
            <a:noFill/>
          </a:ln>
        </p:spPr>
      </p:pic>
      <p:sp>
        <p:nvSpPr>
          <p:cNvPr id="140" name="Bedeutung der Flora"/>
          <p:cNvSpPr/>
          <p:nvPr/>
        </p:nvSpPr>
        <p:spPr>
          <a:xfrm>
            <a:off x="3421080" y="4428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Harndrain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ikationen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4920" y="1413000"/>
          <a:ext cx="9074160" cy="4886280"/>
        </p:xfrm>
        <a:graphic>
          <a:graphicData uri="http://schemas.openxmlformats.org/drawingml/2006/table">
            <a:tbl>
              <a:tblPr/>
              <a:tblGrid>
                <a:gridCol w="431640"/>
                <a:gridCol w="3802320"/>
                <a:gridCol w="48402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ureth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67eb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rapubis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67ebb"/>
                    </a:solidFill>
                  </a:tcPr>
                </a:tc>
              </a:tr>
              <a:tr h="2082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67eb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ig Kontraindikatio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Pflegende deligierb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 abdominales Verletzungsrisi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öglichkeit der Dauerspül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gehung der Harnröhre, dadurch keine Schleimhautirritation, keine Läsion der Harnröh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iger nosokominale HWI, seltener Problemke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ntanmikition, Restharnbestimmung und weitere diagnostische Maßnahmen mögli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ingerer Pflegeaufw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iger Beeinträchtigung und größeres Wohlbefinden seitens des Patien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67eb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lecht anwendbar bei Erkrankungen der Harnröhre und benachbarten Strukturen (z.B. Harnröhrenstriktur, Prostataadeno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der Harnröhre bildet sich eine infektionsfördernde Schleimstraß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he Rate nosokominaler Infektionen, oft in Verbindung mit Problemkeim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ktionsversuch und Restharnprüfung nicht mögli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äufig Spätfolgen (z.B. Stiktu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peritoneale Verletzungsgef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fahr einer Infektion der Insertionsstelle evtl. mit nachfolgender Phlegmone oder Peritonit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ch kleineres Lumen höhere Verstopfungsgef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67ebb"/>
                        </a:buClr>
                        <a:buSzPct val="1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fahr der Gefäßverletz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2" name="Textfeld 2" descr=""/>
          <p:cNvPicPr/>
          <p:nvPr/>
        </p:nvPicPr>
        <p:blipFill>
          <a:blip r:embed="rId1"/>
          <a:stretch/>
        </p:blipFill>
        <p:spPr>
          <a:xfrm>
            <a:off x="6480" y="4078440"/>
            <a:ext cx="506160" cy="1663560"/>
          </a:xfrm>
          <a:prstGeom prst="rect">
            <a:avLst/>
          </a:prstGeom>
          <a:ln w="0">
            <a:noFill/>
          </a:ln>
        </p:spPr>
      </p:pic>
      <p:pic>
        <p:nvPicPr>
          <p:cNvPr id="143" name="Textfeld 8" descr=""/>
          <p:cNvPicPr/>
          <p:nvPr/>
        </p:nvPicPr>
        <p:blipFill>
          <a:blip r:embed="rId2"/>
          <a:stretch/>
        </p:blipFill>
        <p:spPr>
          <a:xfrm>
            <a:off x="6480" y="1712880"/>
            <a:ext cx="506160" cy="1670040"/>
          </a:xfrm>
          <a:prstGeom prst="rect">
            <a:avLst/>
          </a:prstGeom>
          <a:ln w="0">
            <a:noFill/>
          </a:ln>
        </p:spPr>
      </p:pic>
      <p:pic>
        <p:nvPicPr>
          <p:cNvPr id="144" name="Textfeld 5" descr=""/>
          <p:cNvPicPr/>
          <p:nvPr/>
        </p:nvPicPr>
        <p:blipFill>
          <a:blip r:embed="rId3"/>
          <a:stretch/>
        </p:blipFill>
        <p:spPr>
          <a:xfrm>
            <a:off x="-96840" y="974880"/>
            <a:ext cx="9844200" cy="372960"/>
          </a:xfrm>
          <a:prstGeom prst="rect">
            <a:avLst/>
          </a:prstGeom>
          <a:ln w="0">
            <a:noFill/>
          </a:ln>
        </p:spPr>
      </p:pic>
      <p:sp>
        <p:nvSpPr>
          <p:cNvPr id="145" name="Bedeutung der Flora"/>
          <p:cNvSpPr/>
          <p:nvPr/>
        </p:nvSpPr>
        <p:spPr>
          <a:xfrm>
            <a:off x="3421080" y="4428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Harndrain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- und Nachteile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179280" y="154764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sokomiale Infektion = durch medizinische Maßnahme bedingte Infek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 den häufigsten noskomialen Infektionen zählen die nosokomialen Harnwegsinfektionen (HW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uptursache der nosokomialen HWI ist die Harndrainage, speziell die transurethrale Langzeitkatheterisier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nerhalb von ca. 14 Tagen kommt es bei einer transurethralen Langzeitdrainage zur Bakteriur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 dem Boden der Bakteriurie können sich verschiedene Formen der Harnwegsinfektion entwickel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Risiko wird maßgeblich bestimmt d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00000"/>
              </a:lnSpc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spositionen des Patient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00000"/>
              </a:lnSpc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vorhandene Keimpotentia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00000"/>
              </a:lnSpc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Übertragungsmöglichkei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Textfeld 3" descr=""/>
          <p:cNvPicPr/>
          <p:nvPr/>
        </p:nvPicPr>
        <p:blipFill>
          <a:blip r:embed="rId1"/>
          <a:stretch/>
        </p:blipFill>
        <p:spPr>
          <a:xfrm>
            <a:off x="-96840" y="974880"/>
            <a:ext cx="9844200" cy="372960"/>
          </a:xfrm>
          <a:prstGeom prst="rect">
            <a:avLst/>
          </a:prstGeom>
          <a:ln w="0">
            <a:noFill/>
          </a:ln>
        </p:spPr>
      </p:pic>
      <p:sp>
        <p:nvSpPr>
          <p:cNvPr id="148" name="Bedeutung der Flora"/>
          <p:cNvSpPr/>
          <p:nvPr/>
        </p:nvSpPr>
        <p:spPr>
          <a:xfrm>
            <a:off x="3421080" y="4428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Harndrain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ektionsgefahren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5"/>
          <p:cNvSpPr/>
          <p:nvPr/>
        </p:nvSpPr>
        <p:spPr>
          <a:xfrm>
            <a:off x="4643280" y="4540320"/>
            <a:ext cx="3745080" cy="119124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en benachb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58920">
              <a:lnSpc>
                <a:spcPct val="100000"/>
              </a:lnSpc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truktu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58920">
              <a:lnSpc>
                <a:spcPct val="100000"/>
              </a:lnSpc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pididym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58920">
              <a:lnSpc>
                <a:spcPct val="100000"/>
              </a:lnSpc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stat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2"/>
          <p:cNvSpPr/>
          <p:nvPr/>
        </p:nvSpPr>
        <p:spPr>
          <a:xfrm>
            <a:off x="4643280" y="1717560"/>
            <a:ext cx="3745080" cy="916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ere H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58920">
              <a:lnSpc>
                <a:spcPct val="100000"/>
              </a:lnSpc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yelonephr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58920">
              <a:lnSpc>
                <a:spcPct val="100000"/>
              </a:lnSpc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Urosep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9"/>
          <p:cNvSpPr/>
          <p:nvPr/>
        </p:nvSpPr>
        <p:spPr>
          <a:xfrm>
            <a:off x="4643280" y="3179880"/>
            <a:ext cx="374508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e H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58920">
              <a:lnSpc>
                <a:spcPct val="100000"/>
              </a:lnSpc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Urethr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58920">
              <a:lnSpc>
                <a:spcPct val="100000"/>
              </a:lnSpc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Zyst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Textfeld 93" descr=""/>
          <p:cNvPicPr/>
          <p:nvPr/>
        </p:nvPicPr>
        <p:blipFill>
          <a:blip r:embed="rId1"/>
          <a:stretch/>
        </p:blipFill>
        <p:spPr>
          <a:xfrm>
            <a:off x="-96840" y="974880"/>
            <a:ext cx="9844200" cy="372960"/>
          </a:xfrm>
          <a:prstGeom prst="rect">
            <a:avLst/>
          </a:prstGeom>
          <a:ln w="0">
            <a:noFill/>
          </a:ln>
        </p:spPr>
      </p:pic>
      <p:sp>
        <p:nvSpPr>
          <p:cNvPr id="153" name="Bedeutung der Flora"/>
          <p:cNvSpPr/>
          <p:nvPr/>
        </p:nvSpPr>
        <p:spPr>
          <a:xfrm>
            <a:off x="3421080" y="4428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Harndrain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ektionsformen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6"/>
          <p:cNvGrpSpPr/>
          <p:nvPr/>
        </p:nvGrpSpPr>
        <p:grpSpPr>
          <a:xfrm>
            <a:off x="736200" y="1539000"/>
            <a:ext cx="3463560" cy="4642200"/>
            <a:chOff x="736200" y="1539000"/>
            <a:chExt cx="3463560" cy="4642200"/>
          </a:xfrm>
        </p:grpSpPr>
        <p:sp>
          <p:nvSpPr>
            <p:cNvPr id="155" name="Freeform 7"/>
            <p:cNvSpPr/>
            <p:nvPr/>
          </p:nvSpPr>
          <p:spPr>
            <a:xfrm rot="60000">
              <a:off x="1028520" y="1565640"/>
              <a:ext cx="3086280" cy="301068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8"/>
            <p:cNvSpPr/>
            <p:nvPr/>
          </p:nvSpPr>
          <p:spPr>
            <a:xfrm rot="60000">
              <a:off x="3133440" y="3098160"/>
              <a:ext cx="111600" cy="42624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9"/>
            <p:cNvSpPr/>
            <p:nvPr/>
          </p:nvSpPr>
          <p:spPr>
            <a:xfrm rot="60000">
              <a:off x="2962080" y="3198240"/>
              <a:ext cx="124200" cy="40068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0"/>
            <p:cNvSpPr/>
            <p:nvPr/>
          </p:nvSpPr>
          <p:spPr>
            <a:xfrm rot="1492800">
              <a:off x="1668600" y="2019240"/>
              <a:ext cx="1200960" cy="733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1"/>
            <p:cNvSpPr/>
            <p:nvPr/>
          </p:nvSpPr>
          <p:spPr>
            <a:xfrm rot="60000">
              <a:off x="2814840" y="1566360"/>
              <a:ext cx="414360" cy="90756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2"/>
            <p:cNvSpPr/>
            <p:nvPr/>
          </p:nvSpPr>
          <p:spPr>
            <a:xfrm rot="60000">
              <a:off x="2733480" y="2438640"/>
              <a:ext cx="79200" cy="80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3"/>
            <p:cNvSpPr/>
            <p:nvPr/>
          </p:nvSpPr>
          <p:spPr>
            <a:xfrm rot="20584800">
              <a:off x="1809360" y="3646080"/>
              <a:ext cx="514800" cy="7732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4"/>
            <p:cNvSpPr/>
            <p:nvPr/>
          </p:nvSpPr>
          <p:spPr>
            <a:xfrm rot="60000">
              <a:off x="1963440" y="3651120"/>
              <a:ext cx="267120" cy="76068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5"/>
            <p:cNvSpPr/>
            <p:nvPr/>
          </p:nvSpPr>
          <p:spPr>
            <a:xfrm rot="60000">
              <a:off x="1490400" y="4222440"/>
              <a:ext cx="26640" cy="192816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 rot="60000">
              <a:off x="3315960" y="2289240"/>
              <a:ext cx="868320" cy="174456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7"/>
            <p:cNvSpPr/>
            <p:nvPr/>
          </p:nvSpPr>
          <p:spPr>
            <a:xfrm rot="60000">
              <a:off x="3570480" y="3698280"/>
              <a:ext cx="371880" cy="247968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8"/>
            <p:cNvSpPr/>
            <p:nvPr/>
          </p:nvSpPr>
          <p:spPr>
            <a:xfrm rot="60000">
              <a:off x="2184120" y="2593080"/>
              <a:ext cx="738360" cy="62496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19"/>
            <p:cNvGrpSpPr/>
            <p:nvPr/>
          </p:nvGrpSpPr>
          <p:grpSpPr>
            <a:xfrm>
              <a:off x="736200" y="2208960"/>
              <a:ext cx="2014560" cy="3805560"/>
              <a:chOff x="736200" y="2208960"/>
              <a:chExt cx="2014560" cy="3805560"/>
            </a:xfrm>
          </p:grpSpPr>
          <p:sp>
            <p:nvSpPr>
              <p:cNvPr id="168" name="Freeform 20"/>
              <p:cNvSpPr/>
              <p:nvPr/>
            </p:nvSpPr>
            <p:spPr>
              <a:xfrm rot="60000">
                <a:off x="989640" y="2720520"/>
                <a:ext cx="1725480" cy="31316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21"/>
              <p:cNvSpPr/>
              <p:nvPr/>
            </p:nvSpPr>
            <p:spPr>
              <a:xfrm rot="19852800">
                <a:off x="2288160" y="2450520"/>
                <a:ext cx="408600" cy="32724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2"/>
              <p:cNvSpPr/>
              <p:nvPr/>
            </p:nvSpPr>
            <p:spPr>
              <a:xfrm rot="60000">
                <a:off x="2212920" y="2211120"/>
                <a:ext cx="250200" cy="29916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23"/>
              <p:cNvSpPr/>
              <p:nvPr/>
            </p:nvSpPr>
            <p:spPr>
              <a:xfrm rot="20554200">
                <a:off x="2265120" y="2255400"/>
                <a:ext cx="79200" cy="889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24"/>
              <p:cNvSpPr/>
              <p:nvPr/>
            </p:nvSpPr>
            <p:spPr>
              <a:xfrm rot="60000">
                <a:off x="979560" y="5803920"/>
                <a:ext cx="179280" cy="20880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25"/>
              <p:cNvSpPr/>
              <p:nvPr/>
            </p:nvSpPr>
            <p:spPr>
              <a:xfrm rot="60000">
                <a:off x="1026360" y="5861520"/>
                <a:ext cx="79200" cy="12276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26"/>
              <p:cNvSpPr/>
              <p:nvPr/>
            </p:nvSpPr>
            <p:spPr>
              <a:xfrm rot="60000">
                <a:off x="767880" y="5270040"/>
                <a:ext cx="272880" cy="48528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27"/>
              <p:cNvSpPr/>
              <p:nvPr/>
            </p:nvSpPr>
            <p:spPr>
              <a:xfrm rot="60000">
                <a:off x="737280" y="5734080"/>
                <a:ext cx="104760" cy="13968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28"/>
            <p:cNvSpPr/>
            <p:nvPr/>
          </p:nvSpPr>
          <p:spPr>
            <a:xfrm rot="60000">
              <a:off x="2145240" y="2766240"/>
              <a:ext cx="794880" cy="161064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31"/>
          <p:cNvGrpSpPr/>
          <p:nvPr/>
        </p:nvGrpSpPr>
        <p:grpSpPr>
          <a:xfrm>
            <a:off x="1191960" y="1953360"/>
            <a:ext cx="1662840" cy="2505240"/>
            <a:chOff x="1191960" y="1953360"/>
            <a:chExt cx="1662840" cy="2505240"/>
          </a:xfrm>
        </p:grpSpPr>
        <p:sp>
          <p:nvSpPr>
            <p:cNvPr id="178" name="Freeform 32"/>
            <p:cNvSpPr/>
            <p:nvPr/>
          </p:nvSpPr>
          <p:spPr>
            <a:xfrm rot="60000">
              <a:off x="1206000" y="2763360"/>
              <a:ext cx="1405800" cy="1658520"/>
            </a:xfrm>
            <a:custGeom>
              <a:avLst/>
              <a:gdLst/>
              <a:ahLst/>
              <a:rect l="l" t="t" r="r" b="b"/>
              <a:pathLst>
                <a:path w="994" h="1174">
                  <a:moveTo>
                    <a:pt x="921" y="0"/>
                  </a:moveTo>
                  <a:cubicBezTo>
                    <a:pt x="947" y="54"/>
                    <a:pt x="974" y="108"/>
                    <a:pt x="984" y="158"/>
                  </a:cubicBezTo>
                  <a:cubicBezTo>
                    <a:pt x="994" y="208"/>
                    <a:pt x="991" y="267"/>
                    <a:pt x="984" y="302"/>
                  </a:cubicBezTo>
                  <a:cubicBezTo>
                    <a:pt x="977" y="337"/>
                    <a:pt x="966" y="356"/>
                    <a:pt x="944" y="370"/>
                  </a:cubicBezTo>
                  <a:cubicBezTo>
                    <a:pt x="922" y="384"/>
                    <a:pt x="894" y="385"/>
                    <a:pt x="853" y="384"/>
                  </a:cubicBezTo>
                  <a:cubicBezTo>
                    <a:pt x="812" y="383"/>
                    <a:pt x="748" y="376"/>
                    <a:pt x="696" y="362"/>
                  </a:cubicBezTo>
                  <a:cubicBezTo>
                    <a:pt x="644" y="348"/>
                    <a:pt x="584" y="316"/>
                    <a:pt x="540" y="298"/>
                  </a:cubicBezTo>
                  <a:cubicBezTo>
                    <a:pt x="496" y="280"/>
                    <a:pt x="471" y="263"/>
                    <a:pt x="432" y="254"/>
                  </a:cubicBezTo>
                  <a:cubicBezTo>
                    <a:pt x="393" y="245"/>
                    <a:pt x="339" y="245"/>
                    <a:pt x="308" y="246"/>
                  </a:cubicBezTo>
                  <a:cubicBezTo>
                    <a:pt x="277" y="247"/>
                    <a:pt x="265" y="251"/>
                    <a:pt x="244" y="258"/>
                  </a:cubicBezTo>
                  <a:cubicBezTo>
                    <a:pt x="223" y="265"/>
                    <a:pt x="202" y="270"/>
                    <a:pt x="181" y="291"/>
                  </a:cubicBezTo>
                  <a:cubicBezTo>
                    <a:pt x="160" y="312"/>
                    <a:pt x="129" y="358"/>
                    <a:pt x="116" y="386"/>
                  </a:cubicBezTo>
                  <a:cubicBezTo>
                    <a:pt x="103" y="414"/>
                    <a:pt x="102" y="424"/>
                    <a:pt x="100" y="462"/>
                  </a:cubicBezTo>
                  <a:cubicBezTo>
                    <a:pt x="98" y="500"/>
                    <a:pt x="105" y="559"/>
                    <a:pt x="104" y="614"/>
                  </a:cubicBezTo>
                  <a:cubicBezTo>
                    <a:pt x="103" y="669"/>
                    <a:pt x="113" y="697"/>
                    <a:pt x="96" y="790"/>
                  </a:cubicBezTo>
                  <a:cubicBezTo>
                    <a:pt x="79" y="883"/>
                    <a:pt x="39" y="1028"/>
                    <a:pt x="0" y="1174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33"/>
            <p:cNvSpPr/>
            <p:nvPr/>
          </p:nvSpPr>
          <p:spPr>
            <a:xfrm rot="60000">
              <a:off x="1307160" y="2765520"/>
              <a:ext cx="1424160" cy="1680840"/>
            </a:xfrm>
            <a:custGeom>
              <a:avLst/>
              <a:gdLst/>
              <a:ahLst/>
              <a:rect l="l" t="t" r="r" b="b"/>
              <a:pathLst>
                <a:path w="1007" h="1190">
                  <a:moveTo>
                    <a:pt x="939" y="0"/>
                  </a:moveTo>
                  <a:cubicBezTo>
                    <a:pt x="957" y="55"/>
                    <a:pt x="974" y="110"/>
                    <a:pt x="984" y="158"/>
                  </a:cubicBezTo>
                  <a:cubicBezTo>
                    <a:pt x="994" y="206"/>
                    <a:pt x="1007" y="246"/>
                    <a:pt x="1000" y="288"/>
                  </a:cubicBezTo>
                  <a:cubicBezTo>
                    <a:pt x="993" y="330"/>
                    <a:pt x="976" y="382"/>
                    <a:pt x="944" y="410"/>
                  </a:cubicBezTo>
                  <a:cubicBezTo>
                    <a:pt x="912" y="438"/>
                    <a:pt x="853" y="448"/>
                    <a:pt x="808" y="453"/>
                  </a:cubicBezTo>
                  <a:cubicBezTo>
                    <a:pt x="763" y="458"/>
                    <a:pt x="726" y="454"/>
                    <a:pt x="672" y="442"/>
                  </a:cubicBezTo>
                  <a:cubicBezTo>
                    <a:pt x="618" y="430"/>
                    <a:pt x="546" y="404"/>
                    <a:pt x="484" y="382"/>
                  </a:cubicBezTo>
                  <a:cubicBezTo>
                    <a:pt x="422" y="360"/>
                    <a:pt x="347" y="321"/>
                    <a:pt x="300" y="310"/>
                  </a:cubicBezTo>
                  <a:cubicBezTo>
                    <a:pt x="253" y="299"/>
                    <a:pt x="229" y="305"/>
                    <a:pt x="200" y="314"/>
                  </a:cubicBezTo>
                  <a:cubicBezTo>
                    <a:pt x="171" y="323"/>
                    <a:pt x="144" y="343"/>
                    <a:pt x="128" y="362"/>
                  </a:cubicBezTo>
                  <a:cubicBezTo>
                    <a:pt x="112" y="381"/>
                    <a:pt x="109" y="397"/>
                    <a:pt x="104" y="426"/>
                  </a:cubicBezTo>
                  <a:cubicBezTo>
                    <a:pt x="99" y="455"/>
                    <a:pt x="101" y="485"/>
                    <a:pt x="100" y="534"/>
                  </a:cubicBezTo>
                  <a:cubicBezTo>
                    <a:pt x="99" y="583"/>
                    <a:pt x="99" y="663"/>
                    <a:pt x="96" y="718"/>
                  </a:cubicBezTo>
                  <a:cubicBezTo>
                    <a:pt x="93" y="773"/>
                    <a:pt x="96" y="787"/>
                    <a:pt x="80" y="866"/>
                  </a:cubicBezTo>
                  <a:cubicBezTo>
                    <a:pt x="64" y="945"/>
                    <a:pt x="32" y="1067"/>
                    <a:pt x="0" y="1190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4"/>
            <p:cNvSpPr/>
            <p:nvPr/>
          </p:nvSpPr>
          <p:spPr>
            <a:xfrm rot="60000">
              <a:off x="1692000" y="1963080"/>
              <a:ext cx="1155240" cy="843120"/>
            </a:xfrm>
            <a:custGeom>
              <a:avLst/>
              <a:gdLst/>
              <a:ahLst/>
              <a:rect l="l" t="t" r="r" b="b"/>
              <a:pathLst>
                <a:path w="817" h="597">
                  <a:moveTo>
                    <a:pt x="587" y="585"/>
                  </a:moveTo>
                  <a:cubicBezTo>
                    <a:pt x="556" y="586"/>
                    <a:pt x="473" y="597"/>
                    <a:pt x="403" y="577"/>
                  </a:cubicBezTo>
                  <a:cubicBezTo>
                    <a:pt x="333" y="557"/>
                    <a:pt x="230" y="512"/>
                    <a:pt x="167" y="465"/>
                  </a:cubicBezTo>
                  <a:cubicBezTo>
                    <a:pt x="104" y="418"/>
                    <a:pt x="54" y="343"/>
                    <a:pt x="27" y="293"/>
                  </a:cubicBezTo>
                  <a:cubicBezTo>
                    <a:pt x="0" y="243"/>
                    <a:pt x="1" y="204"/>
                    <a:pt x="7" y="165"/>
                  </a:cubicBezTo>
                  <a:cubicBezTo>
                    <a:pt x="13" y="126"/>
                    <a:pt x="26" y="84"/>
                    <a:pt x="63" y="57"/>
                  </a:cubicBezTo>
                  <a:cubicBezTo>
                    <a:pt x="100" y="30"/>
                    <a:pt x="166" y="10"/>
                    <a:pt x="227" y="5"/>
                  </a:cubicBezTo>
                  <a:cubicBezTo>
                    <a:pt x="288" y="0"/>
                    <a:pt x="362" y="8"/>
                    <a:pt x="431" y="29"/>
                  </a:cubicBezTo>
                  <a:cubicBezTo>
                    <a:pt x="500" y="50"/>
                    <a:pt x="585" y="90"/>
                    <a:pt x="643" y="133"/>
                  </a:cubicBezTo>
                  <a:cubicBezTo>
                    <a:pt x="701" y="176"/>
                    <a:pt x="752" y="237"/>
                    <a:pt x="779" y="289"/>
                  </a:cubicBezTo>
                  <a:cubicBezTo>
                    <a:pt x="806" y="341"/>
                    <a:pt x="817" y="398"/>
                    <a:pt x="803" y="445"/>
                  </a:cubicBezTo>
                  <a:cubicBezTo>
                    <a:pt x="789" y="492"/>
                    <a:pt x="742" y="532"/>
                    <a:pt x="695" y="573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37"/>
          <p:cNvGrpSpPr/>
          <p:nvPr/>
        </p:nvGrpSpPr>
        <p:grpSpPr>
          <a:xfrm>
            <a:off x="1976040" y="2575800"/>
            <a:ext cx="979560" cy="1842840"/>
            <a:chOff x="1976040" y="2575800"/>
            <a:chExt cx="979560" cy="1842840"/>
          </a:xfrm>
        </p:grpSpPr>
        <p:sp>
          <p:nvSpPr>
            <p:cNvPr id="182" name="Freeform 38"/>
            <p:cNvSpPr/>
            <p:nvPr/>
          </p:nvSpPr>
          <p:spPr>
            <a:xfrm rot="60000">
              <a:off x="2179080" y="2743920"/>
              <a:ext cx="455040" cy="478440"/>
            </a:xfrm>
            <a:custGeom>
              <a:avLst/>
              <a:gdLst/>
              <a:ahLst/>
              <a:rect l="l" t="t" r="r" b="b"/>
              <a:pathLst>
                <a:path w="322" h="339">
                  <a:moveTo>
                    <a:pt x="14" y="20"/>
                  </a:moveTo>
                  <a:cubicBezTo>
                    <a:pt x="28" y="0"/>
                    <a:pt x="93" y="35"/>
                    <a:pt x="131" y="38"/>
                  </a:cubicBezTo>
                  <a:cubicBezTo>
                    <a:pt x="169" y="41"/>
                    <a:pt x="200" y="23"/>
                    <a:pt x="242" y="41"/>
                  </a:cubicBezTo>
                  <a:cubicBezTo>
                    <a:pt x="277" y="53"/>
                    <a:pt x="289" y="133"/>
                    <a:pt x="299" y="179"/>
                  </a:cubicBezTo>
                  <a:cubicBezTo>
                    <a:pt x="309" y="225"/>
                    <a:pt x="322" y="301"/>
                    <a:pt x="302" y="320"/>
                  </a:cubicBezTo>
                  <a:cubicBezTo>
                    <a:pt x="282" y="339"/>
                    <a:pt x="214" y="309"/>
                    <a:pt x="179" y="296"/>
                  </a:cubicBezTo>
                  <a:cubicBezTo>
                    <a:pt x="144" y="283"/>
                    <a:pt x="114" y="261"/>
                    <a:pt x="92" y="239"/>
                  </a:cubicBezTo>
                  <a:cubicBezTo>
                    <a:pt x="70" y="217"/>
                    <a:pt x="58" y="196"/>
                    <a:pt x="44" y="161"/>
                  </a:cubicBezTo>
                  <a:cubicBezTo>
                    <a:pt x="30" y="126"/>
                    <a:pt x="0" y="40"/>
                    <a:pt x="14" y="20"/>
                  </a:cubicBez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rot="60000">
              <a:off x="2614320" y="2578320"/>
              <a:ext cx="298080" cy="619560"/>
            </a:xfrm>
            <a:custGeom>
              <a:avLst/>
              <a:gdLst/>
              <a:ahLst/>
              <a:rect l="l" t="t" r="r" b="b"/>
              <a:pathLst>
                <a:path w="211" h="439">
                  <a:moveTo>
                    <a:pt x="160" y="6"/>
                  </a:moveTo>
                  <a:cubicBezTo>
                    <a:pt x="141" y="0"/>
                    <a:pt x="111" y="79"/>
                    <a:pt x="88" y="103"/>
                  </a:cubicBezTo>
                  <a:cubicBezTo>
                    <a:pt x="65" y="127"/>
                    <a:pt x="34" y="136"/>
                    <a:pt x="22" y="148"/>
                  </a:cubicBezTo>
                  <a:cubicBezTo>
                    <a:pt x="0" y="176"/>
                    <a:pt x="69" y="276"/>
                    <a:pt x="79" y="322"/>
                  </a:cubicBezTo>
                  <a:cubicBezTo>
                    <a:pt x="89" y="368"/>
                    <a:pt x="70" y="415"/>
                    <a:pt x="79" y="427"/>
                  </a:cubicBezTo>
                  <a:cubicBezTo>
                    <a:pt x="88" y="439"/>
                    <a:pt x="116" y="419"/>
                    <a:pt x="136" y="397"/>
                  </a:cubicBezTo>
                  <a:cubicBezTo>
                    <a:pt x="156" y="375"/>
                    <a:pt x="188" y="338"/>
                    <a:pt x="199" y="295"/>
                  </a:cubicBezTo>
                  <a:cubicBezTo>
                    <a:pt x="210" y="252"/>
                    <a:pt x="211" y="185"/>
                    <a:pt x="205" y="139"/>
                  </a:cubicBezTo>
                  <a:cubicBezTo>
                    <a:pt x="199" y="93"/>
                    <a:pt x="179" y="12"/>
                    <a:pt x="160" y="6"/>
                  </a:cubicBez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40"/>
            <p:cNvSpPr/>
            <p:nvPr/>
          </p:nvSpPr>
          <p:spPr>
            <a:xfrm rot="60000">
              <a:off x="2149920" y="2774880"/>
              <a:ext cx="791280" cy="1605960"/>
            </a:xfrm>
            <a:custGeom>
              <a:avLst/>
              <a:gdLst/>
              <a:ahLst/>
              <a:rect l="l" t="t" r="r" b="b"/>
              <a:pathLst>
                <a:path w="560" h="1138">
                  <a:moveTo>
                    <a:pt x="364" y="66"/>
                  </a:moveTo>
                  <a:cubicBezTo>
                    <a:pt x="374" y="55"/>
                    <a:pt x="409" y="25"/>
                    <a:pt x="436" y="17"/>
                  </a:cubicBezTo>
                  <a:cubicBezTo>
                    <a:pt x="462" y="8"/>
                    <a:pt x="503" y="0"/>
                    <a:pt x="523" y="9"/>
                  </a:cubicBezTo>
                  <a:cubicBezTo>
                    <a:pt x="544" y="18"/>
                    <a:pt x="555" y="27"/>
                    <a:pt x="557" y="70"/>
                  </a:cubicBezTo>
                  <a:cubicBezTo>
                    <a:pt x="560" y="113"/>
                    <a:pt x="560" y="206"/>
                    <a:pt x="538" y="272"/>
                  </a:cubicBezTo>
                  <a:cubicBezTo>
                    <a:pt x="517" y="338"/>
                    <a:pt x="478" y="419"/>
                    <a:pt x="428" y="470"/>
                  </a:cubicBezTo>
                  <a:cubicBezTo>
                    <a:pt x="379" y="521"/>
                    <a:pt x="299" y="561"/>
                    <a:pt x="242" y="577"/>
                  </a:cubicBezTo>
                  <a:cubicBezTo>
                    <a:pt x="185" y="594"/>
                    <a:pt x="122" y="567"/>
                    <a:pt x="86" y="569"/>
                  </a:cubicBezTo>
                  <a:cubicBezTo>
                    <a:pt x="51" y="572"/>
                    <a:pt x="38" y="581"/>
                    <a:pt x="29" y="592"/>
                  </a:cubicBezTo>
                  <a:cubicBezTo>
                    <a:pt x="20" y="604"/>
                    <a:pt x="16" y="613"/>
                    <a:pt x="29" y="642"/>
                  </a:cubicBezTo>
                  <a:cubicBezTo>
                    <a:pt x="42" y="671"/>
                    <a:pt x="82" y="732"/>
                    <a:pt x="101" y="768"/>
                  </a:cubicBezTo>
                  <a:cubicBezTo>
                    <a:pt x="120" y="803"/>
                    <a:pt x="137" y="820"/>
                    <a:pt x="147" y="855"/>
                  </a:cubicBezTo>
                  <a:cubicBezTo>
                    <a:pt x="157" y="891"/>
                    <a:pt x="162" y="943"/>
                    <a:pt x="162" y="985"/>
                  </a:cubicBezTo>
                  <a:cubicBezTo>
                    <a:pt x="162" y="1027"/>
                    <a:pt x="156" y="1087"/>
                    <a:pt x="143" y="1111"/>
                  </a:cubicBezTo>
                  <a:cubicBezTo>
                    <a:pt x="130" y="1135"/>
                    <a:pt x="94" y="1138"/>
                    <a:pt x="86" y="1130"/>
                  </a:cubicBezTo>
                  <a:cubicBezTo>
                    <a:pt x="66" y="1107"/>
                    <a:pt x="73" y="1116"/>
                    <a:pt x="79" y="1111"/>
                  </a:cubicBezTo>
                  <a:cubicBezTo>
                    <a:pt x="85" y="1106"/>
                    <a:pt x="110" y="1117"/>
                    <a:pt x="120" y="1099"/>
                  </a:cubicBezTo>
                  <a:cubicBezTo>
                    <a:pt x="130" y="1082"/>
                    <a:pt x="143" y="1045"/>
                    <a:pt x="143" y="1004"/>
                  </a:cubicBezTo>
                  <a:cubicBezTo>
                    <a:pt x="143" y="963"/>
                    <a:pt x="137" y="894"/>
                    <a:pt x="124" y="852"/>
                  </a:cubicBezTo>
                  <a:cubicBezTo>
                    <a:pt x="111" y="810"/>
                    <a:pt x="80" y="777"/>
                    <a:pt x="63" y="749"/>
                  </a:cubicBezTo>
                  <a:cubicBezTo>
                    <a:pt x="47" y="721"/>
                    <a:pt x="35" y="703"/>
                    <a:pt x="25" y="680"/>
                  </a:cubicBezTo>
                  <a:cubicBezTo>
                    <a:pt x="15" y="657"/>
                    <a:pt x="0" y="633"/>
                    <a:pt x="3" y="611"/>
                  </a:cubicBezTo>
                  <a:cubicBezTo>
                    <a:pt x="5" y="590"/>
                    <a:pt x="11" y="559"/>
                    <a:pt x="37" y="550"/>
                  </a:cubicBezTo>
                  <a:cubicBezTo>
                    <a:pt x="62" y="541"/>
                    <a:pt x="118" y="559"/>
                    <a:pt x="158" y="558"/>
                  </a:cubicBezTo>
                  <a:cubicBezTo>
                    <a:pt x="199" y="557"/>
                    <a:pt x="246" y="558"/>
                    <a:pt x="284" y="543"/>
                  </a:cubicBezTo>
                  <a:cubicBezTo>
                    <a:pt x="322" y="527"/>
                    <a:pt x="360" y="496"/>
                    <a:pt x="390" y="466"/>
                  </a:cubicBezTo>
                  <a:cubicBezTo>
                    <a:pt x="421" y="437"/>
                    <a:pt x="446" y="411"/>
                    <a:pt x="470" y="367"/>
                  </a:cubicBezTo>
                  <a:cubicBezTo>
                    <a:pt x="494" y="324"/>
                    <a:pt x="521" y="252"/>
                    <a:pt x="531" y="211"/>
                  </a:cubicBezTo>
                  <a:cubicBezTo>
                    <a:pt x="541" y="170"/>
                    <a:pt x="535" y="151"/>
                    <a:pt x="535" y="123"/>
                  </a:cubicBezTo>
                  <a:cubicBezTo>
                    <a:pt x="535" y="95"/>
                    <a:pt x="537" y="56"/>
                    <a:pt x="527" y="39"/>
                  </a:cubicBezTo>
                  <a:cubicBezTo>
                    <a:pt x="517" y="23"/>
                    <a:pt x="493" y="22"/>
                    <a:pt x="474" y="24"/>
                  </a:cubicBezTo>
                  <a:cubicBezTo>
                    <a:pt x="455" y="27"/>
                    <a:pt x="426" y="48"/>
                    <a:pt x="409" y="58"/>
                  </a:cubicBezTo>
                  <a:cubicBezTo>
                    <a:pt x="393" y="69"/>
                    <a:pt x="379" y="84"/>
                    <a:pt x="371" y="85"/>
                  </a:cubicBezTo>
                  <a:cubicBezTo>
                    <a:pt x="364" y="86"/>
                    <a:pt x="353" y="78"/>
                    <a:pt x="364" y="6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1"/>
            <p:cNvSpPr/>
            <p:nvPr/>
          </p:nvSpPr>
          <p:spPr>
            <a:xfrm rot="60000">
              <a:off x="1982520" y="3659040"/>
              <a:ext cx="357480" cy="756360"/>
            </a:xfrm>
            <a:custGeom>
              <a:avLst/>
              <a:gdLst/>
              <a:ahLst/>
              <a:rect l="l" t="t" r="r" b="b"/>
              <a:pathLst>
                <a:path w="253" h="536">
                  <a:moveTo>
                    <a:pt x="4" y="4"/>
                  </a:moveTo>
                  <a:cubicBezTo>
                    <a:pt x="8" y="3"/>
                    <a:pt x="42" y="0"/>
                    <a:pt x="65" y="8"/>
                  </a:cubicBezTo>
                  <a:cubicBezTo>
                    <a:pt x="88" y="16"/>
                    <a:pt x="121" y="33"/>
                    <a:pt x="140" y="53"/>
                  </a:cubicBezTo>
                  <a:cubicBezTo>
                    <a:pt x="159" y="73"/>
                    <a:pt x="167" y="111"/>
                    <a:pt x="179" y="131"/>
                  </a:cubicBezTo>
                  <a:cubicBezTo>
                    <a:pt x="191" y="151"/>
                    <a:pt x="204" y="151"/>
                    <a:pt x="215" y="173"/>
                  </a:cubicBezTo>
                  <a:cubicBezTo>
                    <a:pt x="226" y="195"/>
                    <a:pt x="243" y="231"/>
                    <a:pt x="248" y="266"/>
                  </a:cubicBezTo>
                  <a:cubicBezTo>
                    <a:pt x="253" y="301"/>
                    <a:pt x="253" y="352"/>
                    <a:pt x="248" y="386"/>
                  </a:cubicBezTo>
                  <a:cubicBezTo>
                    <a:pt x="243" y="420"/>
                    <a:pt x="234" y="449"/>
                    <a:pt x="215" y="473"/>
                  </a:cubicBezTo>
                  <a:cubicBezTo>
                    <a:pt x="196" y="497"/>
                    <a:pt x="141" y="530"/>
                    <a:pt x="131" y="533"/>
                  </a:cubicBezTo>
                  <a:cubicBezTo>
                    <a:pt x="121" y="536"/>
                    <a:pt x="148" y="511"/>
                    <a:pt x="155" y="488"/>
                  </a:cubicBezTo>
                  <a:cubicBezTo>
                    <a:pt x="162" y="465"/>
                    <a:pt x="174" y="425"/>
                    <a:pt x="176" y="392"/>
                  </a:cubicBezTo>
                  <a:cubicBezTo>
                    <a:pt x="178" y="359"/>
                    <a:pt x="175" y="324"/>
                    <a:pt x="164" y="290"/>
                  </a:cubicBezTo>
                  <a:cubicBezTo>
                    <a:pt x="153" y="256"/>
                    <a:pt x="124" y="220"/>
                    <a:pt x="107" y="185"/>
                  </a:cubicBezTo>
                  <a:cubicBezTo>
                    <a:pt x="90" y="150"/>
                    <a:pt x="70" y="108"/>
                    <a:pt x="59" y="80"/>
                  </a:cubicBezTo>
                  <a:cubicBezTo>
                    <a:pt x="48" y="52"/>
                    <a:pt x="50" y="31"/>
                    <a:pt x="41" y="17"/>
                  </a:cubicBezTo>
                  <a:cubicBezTo>
                    <a:pt x="32" y="3"/>
                    <a:pt x="0" y="5"/>
                    <a:pt x="4" y="4"/>
                  </a:cubicBez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44"/>
          <p:cNvGrpSpPr/>
          <p:nvPr/>
        </p:nvGrpSpPr>
        <p:grpSpPr>
          <a:xfrm>
            <a:off x="2809440" y="1567800"/>
            <a:ext cx="824040" cy="1034280"/>
            <a:chOff x="2809440" y="1567800"/>
            <a:chExt cx="824040" cy="1034280"/>
          </a:xfrm>
        </p:grpSpPr>
        <p:sp>
          <p:nvSpPr>
            <p:cNvPr id="187" name="Freeform 45"/>
            <p:cNvSpPr/>
            <p:nvPr/>
          </p:nvSpPr>
          <p:spPr>
            <a:xfrm rot="60000">
              <a:off x="2817000" y="1571040"/>
              <a:ext cx="408240" cy="90504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46"/>
            <p:cNvSpPr/>
            <p:nvPr/>
          </p:nvSpPr>
          <p:spPr>
            <a:xfrm rot="60000">
              <a:off x="3112200" y="1636200"/>
              <a:ext cx="512640" cy="961560"/>
            </a:xfrm>
            <a:prstGeom prst="upArrow">
              <a:avLst>
                <a:gd name="adj1" fmla="val 50000"/>
                <a:gd name="adj2" fmla="val 46893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Oval 47"/>
          <p:cNvSpPr/>
          <p:nvPr/>
        </p:nvSpPr>
        <p:spPr>
          <a:xfrm rot="20119800">
            <a:off x="2282760" y="2254320"/>
            <a:ext cx="65160" cy="127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0"/>
          <p:cNvSpPr/>
          <p:nvPr/>
        </p:nvSpPr>
        <p:spPr>
          <a:xfrm>
            <a:off x="4753080" y="3954600"/>
            <a:ext cx="4211640" cy="1490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örperfremde (exogene) Ke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58920">
              <a:lnSpc>
                <a:spcPct val="100000"/>
              </a:lnSpc>
              <a:buClr>
                <a:srgbClr val="067ebb"/>
              </a:buClr>
              <a:buFont typeface="Arial"/>
              <a:buChar char="•"/>
              <a:tabLst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von Händen des Perso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58920">
              <a:lnSpc>
                <a:spcPct val="100000"/>
              </a:lnSpc>
              <a:buClr>
                <a:srgbClr val="067ebb"/>
              </a:buClr>
              <a:buFont typeface="Arial"/>
              <a:buChar char="•"/>
              <a:tabLst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von Spüllösungen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58920">
              <a:lnSpc>
                <a:spcPct val="100000"/>
              </a:lnSpc>
              <a:buClr>
                <a:srgbClr val="067ebb"/>
              </a:buClr>
              <a:buFont typeface="Arial"/>
              <a:buChar char="•"/>
              <a:tabLst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us der sozialen und unbelebten Umge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7"/>
          <p:cNvSpPr/>
          <p:nvPr/>
        </p:nvSpPr>
        <p:spPr>
          <a:xfrm>
            <a:off x="4730760" y="2190600"/>
            <a:ext cx="4233960" cy="1503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örpereigene (endogene) Keime der Darm- und Genitalfl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58920">
              <a:lnSpc>
                <a:spcPct val="100000"/>
              </a:lnSpc>
              <a:buClr>
                <a:srgbClr val="067ebb"/>
              </a:buClr>
              <a:buFont typeface="Arial"/>
              <a:buChar char="•"/>
              <a:tabLst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. 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58920">
              <a:lnSpc>
                <a:spcPct val="100000"/>
              </a:lnSpc>
              <a:buClr>
                <a:srgbClr val="067ebb"/>
              </a:buClr>
              <a:buFont typeface="Arial"/>
              <a:buChar char="•"/>
              <a:tabLst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nterokok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58920">
              <a:lnSpc>
                <a:spcPct val="100000"/>
              </a:lnSpc>
              <a:buClr>
                <a:srgbClr val="067ebb"/>
              </a:buClr>
              <a:buFont typeface="Arial"/>
              <a:buChar char="•"/>
              <a:tabLst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t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Textfeld 37" descr=""/>
          <p:cNvPicPr/>
          <p:nvPr/>
        </p:nvPicPr>
        <p:blipFill>
          <a:blip r:embed="rId1"/>
          <a:stretch/>
        </p:blipFill>
        <p:spPr>
          <a:xfrm>
            <a:off x="-96840" y="974880"/>
            <a:ext cx="9844200" cy="372960"/>
          </a:xfrm>
          <a:prstGeom prst="rect">
            <a:avLst/>
          </a:prstGeom>
          <a:ln w="0">
            <a:noFill/>
          </a:ln>
        </p:spPr>
      </p:pic>
      <p:sp>
        <p:nvSpPr>
          <p:cNvPr id="193" name="Bedeutung der Flora"/>
          <p:cNvSpPr/>
          <p:nvPr/>
        </p:nvSpPr>
        <p:spPr>
          <a:xfrm>
            <a:off x="3421080" y="4428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Harndrain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ektionserreger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45"/>
          <p:cNvGrpSpPr/>
          <p:nvPr/>
        </p:nvGrpSpPr>
        <p:grpSpPr>
          <a:xfrm>
            <a:off x="734760" y="1537560"/>
            <a:ext cx="3464640" cy="4643640"/>
            <a:chOff x="734760" y="1537560"/>
            <a:chExt cx="3464640" cy="4643640"/>
          </a:xfrm>
        </p:grpSpPr>
        <p:sp>
          <p:nvSpPr>
            <p:cNvPr id="195" name="Freeform 46"/>
            <p:cNvSpPr/>
            <p:nvPr/>
          </p:nvSpPr>
          <p:spPr>
            <a:xfrm rot="60000">
              <a:off x="1027080" y="1564200"/>
              <a:ext cx="3087720" cy="30114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7"/>
            <p:cNvSpPr/>
            <p:nvPr/>
          </p:nvSpPr>
          <p:spPr>
            <a:xfrm rot="60000">
              <a:off x="3132720" y="3097080"/>
              <a:ext cx="111600" cy="42624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8"/>
            <p:cNvSpPr/>
            <p:nvPr/>
          </p:nvSpPr>
          <p:spPr>
            <a:xfrm rot="60000">
              <a:off x="2961720" y="3197520"/>
              <a:ext cx="124200" cy="40068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49"/>
            <p:cNvSpPr/>
            <p:nvPr/>
          </p:nvSpPr>
          <p:spPr>
            <a:xfrm rot="1492800">
              <a:off x="1667520" y="2017800"/>
              <a:ext cx="1201320" cy="734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50"/>
            <p:cNvSpPr/>
            <p:nvPr/>
          </p:nvSpPr>
          <p:spPr>
            <a:xfrm rot="60000">
              <a:off x="2814480" y="1564920"/>
              <a:ext cx="414360" cy="90792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51"/>
            <p:cNvSpPr/>
            <p:nvPr/>
          </p:nvSpPr>
          <p:spPr>
            <a:xfrm rot="60000">
              <a:off x="2733120" y="2437560"/>
              <a:ext cx="79200" cy="80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52"/>
            <p:cNvSpPr/>
            <p:nvPr/>
          </p:nvSpPr>
          <p:spPr>
            <a:xfrm rot="20584800">
              <a:off x="1808280" y="3645360"/>
              <a:ext cx="514800" cy="7732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3"/>
            <p:cNvSpPr/>
            <p:nvPr/>
          </p:nvSpPr>
          <p:spPr>
            <a:xfrm rot="60000">
              <a:off x="1962720" y="3650400"/>
              <a:ext cx="267120" cy="76104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4"/>
            <p:cNvSpPr/>
            <p:nvPr/>
          </p:nvSpPr>
          <p:spPr>
            <a:xfrm rot="60000">
              <a:off x="1489320" y="4221720"/>
              <a:ext cx="26640" cy="192852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5"/>
            <p:cNvSpPr/>
            <p:nvPr/>
          </p:nvSpPr>
          <p:spPr>
            <a:xfrm rot="60000">
              <a:off x="3315240" y="2287800"/>
              <a:ext cx="868680" cy="174528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6"/>
            <p:cNvSpPr/>
            <p:nvPr/>
          </p:nvSpPr>
          <p:spPr>
            <a:xfrm rot="60000">
              <a:off x="3570120" y="3697200"/>
              <a:ext cx="372240" cy="248076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7"/>
            <p:cNvSpPr/>
            <p:nvPr/>
          </p:nvSpPr>
          <p:spPr>
            <a:xfrm rot="60000">
              <a:off x="2183400" y="2592000"/>
              <a:ext cx="738720" cy="6253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58"/>
            <p:cNvGrpSpPr/>
            <p:nvPr/>
          </p:nvGrpSpPr>
          <p:grpSpPr>
            <a:xfrm>
              <a:off x="734760" y="2207880"/>
              <a:ext cx="2015640" cy="3806640"/>
              <a:chOff x="734760" y="2207880"/>
              <a:chExt cx="2015640" cy="3806640"/>
            </a:xfrm>
          </p:grpSpPr>
          <p:sp>
            <p:nvSpPr>
              <p:cNvPr id="208" name="Freeform 59"/>
              <p:cNvSpPr/>
              <p:nvPr/>
            </p:nvSpPr>
            <p:spPr>
              <a:xfrm rot="60000">
                <a:off x="988560" y="2719440"/>
                <a:ext cx="1726200" cy="313272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60"/>
              <p:cNvSpPr/>
              <p:nvPr/>
            </p:nvSpPr>
            <p:spPr>
              <a:xfrm rot="19852800">
                <a:off x="2287440" y="2449800"/>
                <a:ext cx="408960" cy="32724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1"/>
              <p:cNvSpPr/>
              <p:nvPr/>
            </p:nvSpPr>
            <p:spPr>
              <a:xfrm rot="60000">
                <a:off x="2212200" y="2210040"/>
                <a:ext cx="250560" cy="29916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62"/>
              <p:cNvSpPr/>
              <p:nvPr/>
            </p:nvSpPr>
            <p:spPr>
              <a:xfrm rot="20554200">
                <a:off x="2264400" y="2254320"/>
                <a:ext cx="79200" cy="889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63"/>
              <p:cNvSpPr/>
              <p:nvPr/>
            </p:nvSpPr>
            <p:spPr>
              <a:xfrm rot="60000">
                <a:off x="978480" y="5803920"/>
                <a:ext cx="179640" cy="20880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64"/>
              <p:cNvSpPr/>
              <p:nvPr/>
            </p:nvSpPr>
            <p:spPr>
              <a:xfrm rot="60000">
                <a:off x="1025280" y="5861520"/>
                <a:ext cx="79200" cy="12276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65"/>
              <p:cNvSpPr/>
              <p:nvPr/>
            </p:nvSpPr>
            <p:spPr>
              <a:xfrm rot="60000">
                <a:off x="766440" y="5269680"/>
                <a:ext cx="272880" cy="48564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66"/>
              <p:cNvSpPr/>
              <p:nvPr/>
            </p:nvSpPr>
            <p:spPr>
              <a:xfrm rot="60000">
                <a:off x="735840" y="5733720"/>
                <a:ext cx="104760" cy="13968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Freeform 67"/>
            <p:cNvSpPr/>
            <p:nvPr/>
          </p:nvSpPr>
          <p:spPr>
            <a:xfrm rot="60000">
              <a:off x="2144520" y="2765160"/>
              <a:ext cx="794880" cy="161100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Oval 74"/>
          <p:cNvSpPr/>
          <p:nvPr/>
        </p:nvSpPr>
        <p:spPr>
          <a:xfrm>
            <a:off x="684360" y="2855880"/>
            <a:ext cx="2990880" cy="1887480"/>
          </a:xfrm>
          <a:prstGeom prst="ellipse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75"/>
          <p:cNvSpPr/>
          <p:nvPr/>
        </p:nvSpPr>
        <p:spPr>
          <a:xfrm flipV="1">
            <a:off x="3525840" y="2555640"/>
            <a:ext cx="1033560" cy="8017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70"/>
          <p:cNvSpPr/>
          <p:nvPr/>
        </p:nvSpPr>
        <p:spPr>
          <a:xfrm>
            <a:off x="468360" y="4005360"/>
            <a:ext cx="1360440" cy="2305080"/>
          </a:xfrm>
          <a:prstGeom prst="ellipse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1"/>
          <p:cNvSpPr/>
          <p:nvPr/>
        </p:nvSpPr>
        <p:spPr>
          <a:xfrm flipV="1">
            <a:off x="1852560" y="4330800"/>
            <a:ext cx="2706840" cy="8078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47"/>
          <p:cNvSpPr/>
          <p:nvPr/>
        </p:nvSpPr>
        <p:spPr>
          <a:xfrm rot="20119800">
            <a:off x="2282760" y="2254320"/>
            <a:ext cx="65160" cy="127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61"/>
          <p:cNvSpPr/>
          <p:nvPr/>
        </p:nvSpPr>
        <p:spPr>
          <a:xfrm>
            <a:off x="4668480" y="1454040"/>
            <a:ext cx="4334400" cy="2791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9080" indent="-285840"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tralu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58920">
              <a:lnSpc>
                <a:spcPct val="100000"/>
              </a:lnSpc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Zwischen Katheter und Urethr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bildet sich Schle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58920">
              <a:lnSpc>
                <a:spcPct val="100000"/>
              </a:lnSpc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Keime der Darm- und Genitalflor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gelangen entlang des Katheters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n die Bl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58920">
              <a:lnSpc>
                <a:spcPct val="100000"/>
              </a:lnSpc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Unausweichliches Geschehen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welches bei DK innerhalb vo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. 14 Tg. zur Bakteriurie füh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8"/>
          <p:cNvSpPr/>
          <p:nvPr/>
        </p:nvSpPr>
        <p:spPr>
          <a:xfrm>
            <a:off x="4643280" y="4330800"/>
            <a:ext cx="4384800" cy="19778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58560">
              <a:spcBef>
                <a:spcPts val="601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ralu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58560">
              <a:lnSpc>
                <a:spcPct val="100000"/>
              </a:lnSpc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nnerhalb des Katheters dring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Keime in die Blase v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58560">
              <a:lnSpc>
                <a:spcPct val="100000"/>
              </a:lnSpc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Übertragung im Zuge vo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skonnektionen, Spülungen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58560">
              <a:lnSpc>
                <a:spcPct val="100000"/>
              </a:lnSpc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urch Hygiene vermeidb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Textfeld 66" descr=""/>
          <p:cNvPicPr/>
          <p:nvPr/>
        </p:nvPicPr>
        <p:blipFill>
          <a:blip r:embed="rId1"/>
          <a:stretch/>
        </p:blipFill>
        <p:spPr>
          <a:xfrm>
            <a:off x="-96840" y="974880"/>
            <a:ext cx="9844200" cy="37296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45"/>
          <p:cNvGrpSpPr/>
          <p:nvPr/>
        </p:nvGrpSpPr>
        <p:grpSpPr>
          <a:xfrm>
            <a:off x="734760" y="1537560"/>
            <a:ext cx="3464640" cy="4643640"/>
            <a:chOff x="734760" y="1537560"/>
            <a:chExt cx="3464640" cy="4643640"/>
          </a:xfrm>
        </p:grpSpPr>
        <p:sp>
          <p:nvSpPr>
            <p:cNvPr id="226" name="Freeform 46"/>
            <p:cNvSpPr/>
            <p:nvPr/>
          </p:nvSpPr>
          <p:spPr>
            <a:xfrm rot="60000">
              <a:off x="1027080" y="1564200"/>
              <a:ext cx="3087720" cy="30114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47"/>
            <p:cNvSpPr/>
            <p:nvPr/>
          </p:nvSpPr>
          <p:spPr>
            <a:xfrm rot="60000">
              <a:off x="3132720" y="3097080"/>
              <a:ext cx="111600" cy="42624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48"/>
            <p:cNvSpPr/>
            <p:nvPr/>
          </p:nvSpPr>
          <p:spPr>
            <a:xfrm rot="60000">
              <a:off x="2961720" y="3197520"/>
              <a:ext cx="124200" cy="40068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49"/>
            <p:cNvSpPr/>
            <p:nvPr/>
          </p:nvSpPr>
          <p:spPr>
            <a:xfrm rot="1492800">
              <a:off x="1667520" y="2017800"/>
              <a:ext cx="1201320" cy="734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50"/>
            <p:cNvSpPr/>
            <p:nvPr/>
          </p:nvSpPr>
          <p:spPr>
            <a:xfrm rot="60000">
              <a:off x="2814480" y="1564920"/>
              <a:ext cx="414360" cy="90792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51"/>
            <p:cNvSpPr/>
            <p:nvPr/>
          </p:nvSpPr>
          <p:spPr>
            <a:xfrm rot="60000">
              <a:off x="2733120" y="2437560"/>
              <a:ext cx="79200" cy="80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52"/>
            <p:cNvSpPr/>
            <p:nvPr/>
          </p:nvSpPr>
          <p:spPr>
            <a:xfrm rot="20584800">
              <a:off x="1808280" y="3645360"/>
              <a:ext cx="514800" cy="7732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53"/>
            <p:cNvSpPr/>
            <p:nvPr/>
          </p:nvSpPr>
          <p:spPr>
            <a:xfrm rot="60000">
              <a:off x="1962720" y="3650400"/>
              <a:ext cx="267120" cy="76104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54"/>
            <p:cNvSpPr/>
            <p:nvPr/>
          </p:nvSpPr>
          <p:spPr>
            <a:xfrm rot="60000">
              <a:off x="1489320" y="4221720"/>
              <a:ext cx="26640" cy="192852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55"/>
            <p:cNvSpPr/>
            <p:nvPr/>
          </p:nvSpPr>
          <p:spPr>
            <a:xfrm rot="60000">
              <a:off x="3315240" y="2287800"/>
              <a:ext cx="868680" cy="174528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56"/>
            <p:cNvSpPr/>
            <p:nvPr/>
          </p:nvSpPr>
          <p:spPr>
            <a:xfrm rot="60000">
              <a:off x="3570120" y="3697200"/>
              <a:ext cx="372240" cy="248076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57"/>
            <p:cNvSpPr/>
            <p:nvPr/>
          </p:nvSpPr>
          <p:spPr>
            <a:xfrm rot="60000">
              <a:off x="2183400" y="2592000"/>
              <a:ext cx="738720" cy="6253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58"/>
            <p:cNvGrpSpPr/>
            <p:nvPr/>
          </p:nvGrpSpPr>
          <p:grpSpPr>
            <a:xfrm>
              <a:off x="734760" y="2207880"/>
              <a:ext cx="2015640" cy="3806640"/>
              <a:chOff x="734760" y="2207880"/>
              <a:chExt cx="2015640" cy="3806640"/>
            </a:xfrm>
          </p:grpSpPr>
          <p:sp>
            <p:nvSpPr>
              <p:cNvPr id="239" name="Freeform 59"/>
              <p:cNvSpPr/>
              <p:nvPr/>
            </p:nvSpPr>
            <p:spPr>
              <a:xfrm rot="60000">
                <a:off x="988560" y="2719440"/>
                <a:ext cx="1726200" cy="313272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60"/>
              <p:cNvSpPr/>
              <p:nvPr/>
            </p:nvSpPr>
            <p:spPr>
              <a:xfrm rot="19852800">
                <a:off x="2287440" y="2449800"/>
                <a:ext cx="408960" cy="32724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61"/>
              <p:cNvSpPr/>
              <p:nvPr/>
            </p:nvSpPr>
            <p:spPr>
              <a:xfrm rot="60000">
                <a:off x="2212200" y="2210040"/>
                <a:ext cx="250560" cy="29916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62"/>
              <p:cNvSpPr/>
              <p:nvPr/>
            </p:nvSpPr>
            <p:spPr>
              <a:xfrm rot="20554200">
                <a:off x="2264400" y="2254320"/>
                <a:ext cx="79200" cy="889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63"/>
              <p:cNvSpPr/>
              <p:nvPr/>
            </p:nvSpPr>
            <p:spPr>
              <a:xfrm rot="60000">
                <a:off x="978480" y="5803920"/>
                <a:ext cx="179640" cy="20880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64"/>
              <p:cNvSpPr/>
              <p:nvPr/>
            </p:nvSpPr>
            <p:spPr>
              <a:xfrm rot="60000">
                <a:off x="1025280" y="5861520"/>
                <a:ext cx="79200" cy="12276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65"/>
              <p:cNvSpPr/>
              <p:nvPr/>
            </p:nvSpPr>
            <p:spPr>
              <a:xfrm rot="60000">
                <a:off x="766440" y="5269680"/>
                <a:ext cx="272880" cy="48564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66"/>
              <p:cNvSpPr/>
              <p:nvPr/>
            </p:nvSpPr>
            <p:spPr>
              <a:xfrm rot="60000">
                <a:off x="735840" y="5733720"/>
                <a:ext cx="104760" cy="13968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Freeform 67"/>
            <p:cNvSpPr/>
            <p:nvPr/>
          </p:nvSpPr>
          <p:spPr>
            <a:xfrm rot="60000">
              <a:off x="2144520" y="2765160"/>
              <a:ext cx="794880" cy="161100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99"/>
          <p:cNvGrpSpPr/>
          <p:nvPr/>
        </p:nvGrpSpPr>
        <p:grpSpPr>
          <a:xfrm>
            <a:off x="1190520" y="2751120"/>
            <a:ext cx="1549080" cy="1682640"/>
            <a:chOff x="1190520" y="2751120"/>
            <a:chExt cx="1549080" cy="1682640"/>
          </a:xfrm>
        </p:grpSpPr>
        <p:sp>
          <p:nvSpPr>
            <p:cNvPr id="249" name="Freeform 101"/>
            <p:cNvSpPr/>
            <p:nvPr/>
          </p:nvSpPr>
          <p:spPr>
            <a:xfrm>
              <a:off x="1190520" y="2795040"/>
              <a:ext cx="1425240" cy="1617120"/>
            </a:xfrm>
            <a:custGeom>
              <a:avLst/>
              <a:gdLst/>
              <a:ahLst/>
              <a:rect l="l" t="t" r="r" b="b"/>
              <a:pathLst>
                <a:path w="991" h="1143">
                  <a:moveTo>
                    <a:pt x="921" y="0"/>
                  </a:moveTo>
                  <a:cubicBezTo>
                    <a:pt x="931" y="21"/>
                    <a:pt x="966" y="81"/>
                    <a:pt x="977" y="127"/>
                  </a:cubicBezTo>
                  <a:cubicBezTo>
                    <a:pt x="988" y="173"/>
                    <a:pt x="991" y="239"/>
                    <a:pt x="987" y="276"/>
                  </a:cubicBezTo>
                  <a:cubicBezTo>
                    <a:pt x="983" y="313"/>
                    <a:pt x="975" y="333"/>
                    <a:pt x="951" y="348"/>
                  </a:cubicBezTo>
                  <a:cubicBezTo>
                    <a:pt x="927" y="363"/>
                    <a:pt x="889" y="366"/>
                    <a:pt x="845" y="363"/>
                  </a:cubicBezTo>
                  <a:cubicBezTo>
                    <a:pt x="801" y="360"/>
                    <a:pt x="736" y="346"/>
                    <a:pt x="684" y="330"/>
                  </a:cubicBezTo>
                  <a:cubicBezTo>
                    <a:pt x="632" y="314"/>
                    <a:pt x="576" y="284"/>
                    <a:pt x="533" y="267"/>
                  </a:cubicBezTo>
                  <a:cubicBezTo>
                    <a:pt x="490" y="250"/>
                    <a:pt x="465" y="237"/>
                    <a:pt x="426" y="228"/>
                  </a:cubicBezTo>
                  <a:cubicBezTo>
                    <a:pt x="387" y="219"/>
                    <a:pt x="332" y="215"/>
                    <a:pt x="301" y="215"/>
                  </a:cubicBezTo>
                  <a:cubicBezTo>
                    <a:pt x="270" y="215"/>
                    <a:pt x="262" y="222"/>
                    <a:pt x="240" y="231"/>
                  </a:cubicBezTo>
                  <a:cubicBezTo>
                    <a:pt x="218" y="240"/>
                    <a:pt x="193" y="249"/>
                    <a:pt x="171" y="270"/>
                  </a:cubicBezTo>
                  <a:cubicBezTo>
                    <a:pt x="149" y="291"/>
                    <a:pt x="122" y="328"/>
                    <a:pt x="109" y="355"/>
                  </a:cubicBezTo>
                  <a:cubicBezTo>
                    <a:pt x="96" y="382"/>
                    <a:pt x="95" y="393"/>
                    <a:pt x="93" y="431"/>
                  </a:cubicBezTo>
                  <a:cubicBezTo>
                    <a:pt x="91" y="469"/>
                    <a:pt x="98" y="528"/>
                    <a:pt x="97" y="583"/>
                  </a:cubicBezTo>
                  <a:cubicBezTo>
                    <a:pt x="96" y="638"/>
                    <a:pt x="105" y="666"/>
                    <a:pt x="89" y="759"/>
                  </a:cubicBezTo>
                  <a:cubicBezTo>
                    <a:pt x="73" y="852"/>
                    <a:pt x="19" y="1063"/>
                    <a:pt x="0" y="1143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02"/>
            <p:cNvSpPr/>
            <p:nvPr/>
          </p:nvSpPr>
          <p:spPr>
            <a:xfrm>
              <a:off x="1302480" y="2751120"/>
              <a:ext cx="1437120" cy="1682640"/>
            </a:xfrm>
            <a:custGeom>
              <a:avLst/>
              <a:gdLst/>
              <a:ahLst/>
              <a:rect l="l" t="t" r="r" b="b"/>
              <a:pathLst>
                <a:path w="999" h="1189">
                  <a:moveTo>
                    <a:pt x="926" y="0"/>
                  </a:moveTo>
                  <a:cubicBezTo>
                    <a:pt x="944" y="55"/>
                    <a:pt x="960" y="110"/>
                    <a:pt x="971" y="158"/>
                  </a:cubicBezTo>
                  <a:cubicBezTo>
                    <a:pt x="982" y="206"/>
                    <a:pt x="999" y="245"/>
                    <a:pt x="993" y="289"/>
                  </a:cubicBezTo>
                  <a:cubicBezTo>
                    <a:pt x="987" y="333"/>
                    <a:pt x="968" y="396"/>
                    <a:pt x="936" y="424"/>
                  </a:cubicBezTo>
                  <a:cubicBezTo>
                    <a:pt x="904" y="452"/>
                    <a:pt x="852" y="454"/>
                    <a:pt x="803" y="458"/>
                  </a:cubicBezTo>
                  <a:cubicBezTo>
                    <a:pt x="754" y="462"/>
                    <a:pt x="694" y="461"/>
                    <a:pt x="639" y="448"/>
                  </a:cubicBezTo>
                  <a:cubicBezTo>
                    <a:pt x="584" y="435"/>
                    <a:pt x="531" y="404"/>
                    <a:pt x="471" y="382"/>
                  </a:cubicBezTo>
                  <a:cubicBezTo>
                    <a:pt x="411" y="360"/>
                    <a:pt x="330" y="325"/>
                    <a:pt x="282" y="316"/>
                  </a:cubicBezTo>
                  <a:cubicBezTo>
                    <a:pt x="234" y="307"/>
                    <a:pt x="208" y="318"/>
                    <a:pt x="183" y="325"/>
                  </a:cubicBezTo>
                  <a:cubicBezTo>
                    <a:pt x="158" y="332"/>
                    <a:pt x="145" y="344"/>
                    <a:pt x="132" y="361"/>
                  </a:cubicBezTo>
                  <a:cubicBezTo>
                    <a:pt x="119" y="378"/>
                    <a:pt x="110" y="397"/>
                    <a:pt x="105" y="427"/>
                  </a:cubicBezTo>
                  <a:cubicBezTo>
                    <a:pt x="100" y="457"/>
                    <a:pt x="103" y="492"/>
                    <a:pt x="99" y="541"/>
                  </a:cubicBezTo>
                  <a:cubicBezTo>
                    <a:pt x="95" y="590"/>
                    <a:pt x="88" y="664"/>
                    <a:pt x="83" y="718"/>
                  </a:cubicBezTo>
                  <a:cubicBezTo>
                    <a:pt x="78" y="772"/>
                    <a:pt x="81" y="788"/>
                    <a:pt x="67" y="866"/>
                  </a:cubicBezTo>
                  <a:cubicBezTo>
                    <a:pt x="53" y="944"/>
                    <a:pt x="14" y="1122"/>
                    <a:pt x="0" y="1189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AutoShape 103"/>
          <p:cNvSpPr/>
          <p:nvPr/>
        </p:nvSpPr>
        <p:spPr>
          <a:xfrm rot="4684800">
            <a:off x="1360080" y="4390920"/>
            <a:ext cx="388800" cy="585720"/>
          </a:xfrm>
          <a:custGeom>
            <a:avLst/>
            <a:gdLst>
              <a:gd name="textAreaLeft" fmla="*/ 51840 w 388800"/>
              <a:gd name="textAreaRight" fmla="*/ 336960 w 388800"/>
              <a:gd name="textAreaTop" fmla="*/ 102600 h 585720"/>
              <a:gd name="textAreaBottom" fmla="*/ 42480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86" stAng="-5400000" swAng="5400000"/>
                <a:lnTo>
                  <a:pt x="21600" y="11872"/>
                </a:lnTo>
                <a:arcTo wR="21600" hR="7586" stAng="0" swAng="2688425"/>
                <a:lnTo>
                  <a:pt x="7200" y="21166"/>
                </a:lnTo>
                <a:lnTo>
                  <a:pt x="0" y="17314"/>
                </a:lnTo>
                <a:lnTo>
                  <a:pt x="7200" y="12594"/>
                </a:lnTo>
                <a:lnTo>
                  <a:pt x="7200" y="14737"/>
                </a:lnTo>
                <a:arcTo wR="21600" hR="7586" stAng="2688425" swAng="-2334132"/>
                <a:lnTo>
                  <a:pt x="20720" y="9729"/>
                </a:lnTo>
                <a:arcTo wR="21600" hR="7586" stAng="-354293" swAng="-5045707"/>
                <a:close/>
              </a:path>
              <a:path fill="darkenLess" w="21600" h="21600">
                <a:moveTo>
                  <a:pt x="0" y="0"/>
                </a:moveTo>
                <a:arcTo wR="21600" hR="7586" stAng="-5400000" swAng="5400000"/>
                <a:lnTo>
                  <a:pt x="21600" y="11872"/>
                </a:lnTo>
                <a:arcTo wR="21600" hR="7586" stAng="0" swAng="-354293"/>
                <a:lnTo>
                  <a:pt x="20720" y="9729"/>
                </a:lnTo>
                <a:arcTo wR="21600" hR="7586" stAng="-354293" swAng="-5045707"/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04"/>
          <p:cNvSpPr/>
          <p:nvPr/>
        </p:nvSpPr>
        <p:spPr>
          <a:xfrm flipH="1" rot="18721200">
            <a:off x="639000" y="4213800"/>
            <a:ext cx="389160" cy="587520"/>
          </a:xfrm>
          <a:custGeom>
            <a:avLst/>
            <a:gdLst>
              <a:gd name="textAreaLeft" fmla="*/ 51840 w 389160"/>
              <a:gd name="textAreaRight" fmla="*/ 337320 w 389160"/>
              <a:gd name="textAreaTop" fmla="*/ 102960 h 587520"/>
              <a:gd name="textAreaBottom" fmla="*/ 426240 h 58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86" stAng="-5400000" swAng="5400000"/>
                <a:lnTo>
                  <a:pt x="21600" y="11872"/>
                </a:lnTo>
                <a:arcTo wR="21600" hR="7586" stAng="0" swAng="2688425"/>
                <a:lnTo>
                  <a:pt x="7200" y="21166"/>
                </a:lnTo>
                <a:lnTo>
                  <a:pt x="0" y="17314"/>
                </a:lnTo>
                <a:lnTo>
                  <a:pt x="7200" y="12594"/>
                </a:lnTo>
                <a:lnTo>
                  <a:pt x="7200" y="14737"/>
                </a:lnTo>
                <a:arcTo wR="21600" hR="7586" stAng="2688425" swAng="-2334132"/>
                <a:lnTo>
                  <a:pt x="20720" y="9729"/>
                </a:lnTo>
                <a:arcTo wR="21600" hR="7586" stAng="-354293" swAng="-5045707"/>
                <a:close/>
              </a:path>
              <a:path fill="darkenLess" w="21600" h="21600">
                <a:moveTo>
                  <a:pt x="0" y="0"/>
                </a:moveTo>
                <a:arcTo wR="21600" hR="7586" stAng="-5400000" swAng="5400000"/>
                <a:lnTo>
                  <a:pt x="21600" y="11872"/>
                </a:lnTo>
                <a:arcTo wR="21600" hR="7586" stAng="0" swAng="-354293"/>
                <a:lnTo>
                  <a:pt x="20720" y="9729"/>
                </a:lnTo>
                <a:arcTo wR="21600" hR="7586" stAng="-354293" swAng="-5045707"/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70"/>
          <p:cNvSpPr/>
          <p:nvPr/>
        </p:nvSpPr>
        <p:spPr>
          <a:xfrm>
            <a:off x="1027080" y="5759280"/>
            <a:ext cx="108000" cy="9540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71"/>
          <p:cNvSpPr/>
          <p:nvPr/>
        </p:nvSpPr>
        <p:spPr>
          <a:xfrm>
            <a:off x="1028880" y="5942160"/>
            <a:ext cx="107640" cy="9504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72"/>
          <p:cNvSpPr/>
          <p:nvPr/>
        </p:nvSpPr>
        <p:spPr>
          <a:xfrm>
            <a:off x="1033560" y="5575320"/>
            <a:ext cx="108000" cy="9684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73"/>
          <p:cNvSpPr/>
          <p:nvPr/>
        </p:nvSpPr>
        <p:spPr>
          <a:xfrm>
            <a:off x="1030320" y="5392800"/>
            <a:ext cx="108000" cy="9504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74"/>
          <p:cNvSpPr/>
          <p:nvPr/>
        </p:nvSpPr>
        <p:spPr>
          <a:xfrm>
            <a:off x="1027080" y="5216400"/>
            <a:ext cx="108000" cy="9684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75"/>
          <p:cNvSpPr/>
          <p:nvPr/>
        </p:nvSpPr>
        <p:spPr>
          <a:xfrm>
            <a:off x="1033560" y="5024520"/>
            <a:ext cx="108000" cy="9684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76"/>
          <p:cNvSpPr/>
          <p:nvPr/>
        </p:nvSpPr>
        <p:spPr>
          <a:xfrm>
            <a:off x="1062000" y="4832280"/>
            <a:ext cx="106560" cy="9684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77"/>
          <p:cNvSpPr/>
          <p:nvPr/>
        </p:nvSpPr>
        <p:spPr>
          <a:xfrm>
            <a:off x="1098720" y="4665600"/>
            <a:ext cx="106200" cy="9684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78"/>
          <p:cNvSpPr/>
          <p:nvPr/>
        </p:nvSpPr>
        <p:spPr>
          <a:xfrm>
            <a:off x="1157400" y="4491000"/>
            <a:ext cx="108000" cy="9540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79"/>
          <p:cNvSpPr/>
          <p:nvPr/>
        </p:nvSpPr>
        <p:spPr>
          <a:xfrm>
            <a:off x="1204920" y="4295880"/>
            <a:ext cx="106200" cy="9684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80"/>
          <p:cNvSpPr/>
          <p:nvPr/>
        </p:nvSpPr>
        <p:spPr>
          <a:xfrm>
            <a:off x="1263600" y="4111560"/>
            <a:ext cx="106560" cy="9684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81"/>
          <p:cNvSpPr/>
          <p:nvPr/>
        </p:nvSpPr>
        <p:spPr>
          <a:xfrm>
            <a:off x="1295280" y="3914640"/>
            <a:ext cx="108000" cy="9684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82"/>
          <p:cNvSpPr/>
          <p:nvPr/>
        </p:nvSpPr>
        <p:spPr>
          <a:xfrm>
            <a:off x="1327320" y="3736800"/>
            <a:ext cx="107640" cy="9540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83"/>
          <p:cNvSpPr/>
          <p:nvPr/>
        </p:nvSpPr>
        <p:spPr>
          <a:xfrm>
            <a:off x="1325520" y="3552840"/>
            <a:ext cx="106560" cy="9540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84"/>
          <p:cNvSpPr/>
          <p:nvPr/>
        </p:nvSpPr>
        <p:spPr>
          <a:xfrm>
            <a:off x="1330200" y="3343320"/>
            <a:ext cx="108000" cy="9504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85"/>
          <p:cNvSpPr/>
          <p:nvPr/>
        </p:nvSpPr>
        <p:spPr>
          <a:xfrm>
            <a:off x="1407960" y="3184560"/>
            <a:ext cx="106560" cy="9684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86"/>
          <p:cNvSpPr/>
          <p:nvPr/>
        </p:nvSpPr>
        <p:spPr>
          <a:xfrm>
            <a:off x="1566720" y="3116160"/>
            <a:ext cx="106560" cy="9684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87"/>
          <p:cNvSpPr/>
          <p:nvPr/>
        </p:nvSpPr>
        <p:spPr>
          <a:xfrm>
            <a:off x="1784520" y="3156120"/>
            <a:ext cx="107640" cy="9684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88"/>
          <p:cNvSpPr/>
          <p:nvPr/>
        </p:nvSpPr>
        <p:spPr>
          <a:xfrm>
            <a:off x="1957320" y="3240000"/>
            <a:ext cx="108000" cy="9540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89"/>
          <p:cNvSpPr/>
          <p:nvPr/>
        </p:nvSpPr>
        <p:spPr>
          <a:xfrm>
            <a:off x="2158920" y="3305160"/>
            <a:ext cx="106560" cy="9684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90"/>
          <p:cNvSpPr/>
          <p:nvPr/>
        </p:nvSpPr>
        <p:spPr>
          <a:xfrm>
            <a:off x="2376360" y="3336840"/>
            <a:ext cx="108000" cy="9684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91"/>
          <p:cNvSpPr/>
          <p:nvPr/>
        </p:nvSpPr>
        <p:spPr>
          <a:xfrm>
            <a:off x="2549520" y="3300480"/>
            <a:ext cx="108000" cy="9504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92"/>
          <p:cNvSpPr/>
          <p:nvPr/>
        </p:nvSpPr>
        <p:spPr>
          <a:xfrm>
            <a:off x="2635200" y="3151080"/>
            <a:ext cx="108000" cy="9540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3"/>
          <p:cNvSpPr/>
          <p:nvPr/>
        </p:nvSpPr>
        <p:spPr>
          <a:xfrm>
            <a:off x="2631960" y="2959200"/>
            <a:ext cx="108000" cy="9504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94"/>
          <p:cNvSpPr/>
          <p:nvPr/>
        </p:nvSpPr>
        <p:spPr>
          <a:xfrm>
            <a:off x="2541600" y="2766960"/>
            <a:ext cx="108000" cy="9540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95"/>
          <p:cNvSpPr/>
          <p:nvPr/>
        </p:nvSpPr>
        <p:spPr>
          <a:xfrm>
            <a:off x="2317680" y="2401920"/>
            <a:ext cx="108000" cy="9684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96"/>
          <p:cNvSpPr/>
          <p:nvPr/>
        </p:nvSpPr>
        <p:spPr>
          <a:xfrm>
            <a:off x="2235240" y="2244600"/>
            <a:ext cx="108000" cy="9540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97"/>
          <p:cNvSpPr/>
          <p:nvPr/>
        </p:nvSpPr>
        <p:spPr>
          <a:xfrm>
            <a:off x="939960" y="6045120"/>
            <a:ext cx="250560" cy="271440"/>
          </a:xfrm>
          <a:prstGeom prst="upArrow">
            <a:avLst>
              <a:gd name="adj1" fmla="val 50000"/>
              <a:gd name="adj2" fmla="val 45570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47"/>
          <p:cNvSpPr/>
          <p:nvPr/>
        </p:nvSpPr>
        <p:spPr>
          <a:xfrm rot="20119800">
            <a:off x="2282760" y="2254320"/>
            <a:ext cx="65160" cy="127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Bedeutung der Flora"/>
          <p:cNvSpPr/>
          <p:nvPr/>
        </p:nvSpPr>
        <p:spPr>
          <a:xfrm>
            <a:off x="3421080" y="4428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Harndrain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ektionsübertragungen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5"/>
          <p:cNvSpPr/>
          <p:nvPr/>
        </p:nvSpPr>
        <p:spPr>
          <a:xfrm>
            <a:off x="179280" y="1547640"/>
            <a:ext cx="850752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58560">
              <a:spcBef>
                <a:spcPts val="300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ondere Gefährdung fü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358560">
              <a:lnSpc>
                <a:spcPct val="100000"/>
              </a:lnSpc>
              <a:spcBef>
                <a:spcPts val="300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Fra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358560">
              <a:lnSpc>
                <a:spcPct val="100000"/>
              </a:lnSpc>
              <a:spcBef>
                <a:spcPts val="300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äuglinge und alte Men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358560">
              <a:lnSpc>
                <a:spcPct val="100000"/>
              </a:lnSpc>
              <a:spcBef>
                <a:spcPts val="300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mmunsuprimie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3585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1800" indent="-358560">
              <a:spcBef>
                <a:spcPts val="300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fährdung nimmt 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358560">
              <a:lnSpc>
                <a:spcPct val="100000"/>
              </a:lnSpc>
              <a:spcBef>
                <a:spcPts val="300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it der Dauer eines Klinikaufenthal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358560">
              <a:lnSpc>
                <a:spcPct val="100000"/>
              </a:lnSpc>
              <a:spcBef>
                <a:spcPts val="300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it der Liegedauer des Kath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3585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1800" indent="-358560">
              <a:spcBef>
                <a:spcPts val="300"/>
              </a:spcBef>
              <a:buClr>
                <a:srgbClr val="067ebb"/>
              </a:buClr>
              <a:buSzPct val="180000"/>
              <a:buFont typeface="Arial"/>
              <a:buChar char="•"/>
              <a:tabLst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fördernde Fakto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358560">
              <a:lnSpc>
                <a:spcPct val="100000"/>
              </a:lnSpc>
              <a:spcBef>
                <a:spcPts val="300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Ungeeignetes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358560">
              <a:lnSpc>
                <a:spcPct val="100000"/>
              </a:lnSpc>
              <a:spcBef>
                <a:spcPts val="300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Unzureichende Asepsis beim Legen und Wechs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358560">
              <a:lnSpc>
                <a:spcPct val="100000"/>
              </a:lnSpc>
              <a:spcBef>
                <a:spcPts val="300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skonnek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358560">
              <a:lnSpc>
                <a:spcPct val="100000"/>
              </a:lnSpc>
              <a:spcBef>
                <a:spcPts val="300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nstill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358560">
              <a:lnSpc>
                <a:spcPct val="100000"/>
              </a:lnSpc>
              <a:spcBef>
                <a:spcPts val="300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arnstau bei liegendem Kath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358560">
              <a:lnSpc>
                <a:spcPct val="100000"/>
              </a:lnSpc>
              <a:spcBef>
                <a:spcPts val="300"/>
              </a:spcBef>
              <a:buClr>
                <a:srgbClr val="067ebb"/>
              </a:buClr>
              <a:buFont typeface="Arial"/>
              <a:buChar char="•"/>
              <a:tabLst>
                <a:tab algn="l" pos="36180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  <a:tab algn="l" pos="7601040"/>
                <a:tab algn="l" pos="796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anipulationen am Ableitungs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Textfeld 3" descr=""/>
          <p:cNvPicPr/>
          <p:nvPr/>
        </p:nvPicPr>
        <p:blipFill>
          <a:blip r:embed="rId1"/>
          <a:stretch/>
        </p:blipFill>
        <p:spPr>
          <a:xfrm>
            <a:off x="-96840" y="974880"/>
            <a:ext cx="9844200" cy="372960"/>
          </a:xfrm>
          <a:prstGeom prst="rect">
            <a:avLst/>
          </a:prstGeom>
          <a:ln w="0">
            <a:noFill/>
          </a:ln>
        </p:spPr>
      </p:pic>
      <p:sp>
        <p:nvSpPr>
          <p:cNvPr id="285" name="Bedeutung der Flora"/>
          <p:cNvSpPr/>
          <p:nvPr/>
        </p:nvSpPr>
        <p:spPr>
          <a:xfrm>
            <a:off x="3421080" y="4428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Harndrain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fährdungsfaktoren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08:41:23Z</dcterms:created>
  <dc:creator>Fam. Bergen</dc:creator>
  <dc:description/>
  <dc:language>en-US</dc:language>
  <cp:lastModifiedBy>Brandt, K (mmb)</cp:lastModifiedBy>
  <dcterms:modified xsi:type="dcterms:W3CDTF">2018-01-24T09:36:45Z</dcterms:modified>
  <cp:revision>90</cp:revision>
  <dc:subject/>
  <dc:title>Kein Folientitel</dc:title>
</cp:coreProperties>
</file>