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46B0EF9-29BA-430E-8F10-AE640CBA33C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F89A16A-C7F5-4BB1-B278-EBA2A3A8F29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C126132-7F5E-400F-8E75-64B4CB6A2F4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12F4788-5245-4E52-8D98-F5F4B5F9EA4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5C9D00F-8D9A-478B-8476-F299E626070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649DA9F-A918-4ECD-8E8B-6D7705EADC2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2D5B053-78D9-4CDD-BD95-498A5F497FD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C814F73-2B5D-4AF2-889D-94F0D6918A2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BF60B05-4308-428C-95EE-E2BE27B3758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4D406FE-74AF-46ED-83C2-972AD3AC743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CAD8CB1-2ECD-4491-99EE-2D51A5AAFEB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080EC16-72BA-4B13-920D-01EFE48839E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DD6D631-40C4-40FB-832B-AEC9F955F5A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82BBFDF-05D6-4DDD-9507-BE7A7286178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461367E-2DCD-4B57-ADFC-4089865D00C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E842167-2E1C-4019-B470-A769965005A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7F7FC0B-F53E-4178-8C1F-9164B45AC8D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8AB5FAB-3EBE-49F8-8F8D-CCA197C0158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22D6E56-EC4A-4B05-9682-6063A268D11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0509869-B573-4773-941F-D1DC3B93DCE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A98E1F0-FBB7-4F3D-B62C-15B9787CCC6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C8E5D73-2831-4C03-9E13-C850BBD33AA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6BAAD2C-0780-4C02-99E5-2FC4F91B306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E499C40-0835-4E58-94F5-1801A9E3A22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C9C-AB5A-4756-8AA0-A501CA32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F7D-2CED-4053-812E-7E23C83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641-74C9-404B-87DA-5ACC5ABE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211-D002-48FF-B961-A900674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50B-3BF3-4139-9182-19C221F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5D0-3B15-48EC-AC24-9E7C11F0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6DB-27C4-4A04-A493-19E5C19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B36-70D0-4666-AFD3-EF93BF5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B93-5603-481B-8718-0267F036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69B-0396-411F-9693-5E97349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E50-B56F-4FAB-9AAD-7AD3010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EE9-D9C2-4FE6-A911-5708253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09B1-6C62-4C9A-A3B6-A74922F84F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"/>
          <p:cNvSpPr/>
          <p:nvPr/>
        </p:nvSpPr>
        <p:spPr>
          <a:xfrm>
            <a:off x="-239760" y="-193680"/>
            <a:ext cx="9610920" cy="1174680"/>
          </a:xfrm>
          <a:prstGeom prst="rect">
            <a:avLst/>
          </a:prstGeom>
          <a:solidFill>
            <a:srgbClr val="a7a7a7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hteck"/>
          <p:cNvSpPr/>
          <p:nvPr/>
        </p:nvSpPr>
        <p:spPr>
          <a:xfrm>
            <a:off x="-247680" y="981000"/>
            <a:ext cx="9610920" cy="368280"/>
          </a:xfrm>
          <a:prstGeom prst="rect">
            <a:avLst/>
          </a:prstGeom>
          <a:solidFill>
            <a:srgbClr val="e6e6e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chutzringmitHand.png" descr="SchutzringmitHand.png"/>
          <p:cNvPicPr/>
          <p:nvPr/>
        </p:nvPicPr>
        <p:blipFill>
          <a:blip r:embed="rId2"/>
          <a:stretch/>
        </p:blipFill>
        <p:spPr>
          <a:xfrm>
            <a:off x="108000" y="792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4" name="Rechteck 9" descr=""/>
          <p:cNvPicPr/>
          <p:nvPr/>
        </p:nvPicPr>
        <p:blipFill>
          <a:blip r:embed="rId3"/>
          <a:stretch/>
        </p:blipFill>
        <p:spPr>
          <a:xfrm>
            <a:off x="1352520" y="281160"/>
            <a:ext cx="969840" cy="493560"/>
          </a:xfrm>
          <a:prstGeom prst="rect">
            <a:avLst/>
          </a:prstGeom>
          <a:ln w="0">
            <a:noFill/>
          </a:ln>
        </p:spPr>
      </p:pic>
      <p:pic>
        <p:nvPicPr>
          <p:cNvPr id="45" name="Gerade Verbindung 10" descr=""/>
          <p:cNvPicPr/>
          <p:nvPr/>
        </p:nvPicPr>
        <p:blipFill>
          <a:blip r:embed="rId4"/>
          <a:stretch/>
        </p:blipFill>
        <p:spPr>
          <a:xfrm>
            <a:off x="2425680" y="60480"/>
            <a:ext cx="109440" cy="817560"/>
          </a:xfrm>
          <a:prstGeom prst="rect">
            <a:avLst/>
          </a:prstGeom>
          <a:ln w="0">
            <a:noFill/>
          </a:ln>
        </p:spPr>
      </p:pic>
      <p:sp>
        <p:nvSpPr>
          <p:cNvPr id="46" name="Rechteck"/>
          <p:cNvSpPr/>
          <p:nvPr/>
        </p:nvSpPr>
        <p:spPr>
          <a:xfrm>
            <a:off x="-165240" y="6381720"/>
            <a:ext cx="9610920" cy="785880"/>
          </a:xfrm>
          <a:prstGeom prst="rect">
            <a:avLst/>
          </a:prstGeom>
          <a:solidFill>
            <a:srgbClr val="a7a7a7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12"/>
          <p:cNvSpPr/>
          <p:nvPr/>
        </p:nvSpPr>
        <p:spPr>
          <a:xfrm>
            <a:off x="7667640" y="647532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5370113-E12E-4332-9CB5-FBA488C6F6C3}" type="slidenum"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/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9858498_gallery.jpg" descr="19858498_gallery.jpg"/>
          <p:cNvPicPr/>
          <p:nvPr/>
        </p:nvPicPr>
        <p:blipFill>
          <a:blip r:embed="rId2"/>
          <a:stretch/>
        </p:blipFill>
        <p:spPr>
          <a:xfrm>
            <a:off x="-1457280" y="-95400"/>
            <a:ext cx="12611160" cy="7048800"/>
          </a:xfrm>
          <a:prstGeom prst="rect">
            <a:avLst/>
          </a:prstGeom>
          <a:ln w="0">
            <a:noFill/>
          </a:ln>
        </p:spPr>
      </p:pic>
      <p:sp>
        <p:nvSpPr>
          <p:cNvPr id="87" name="Rechteck"/>
          <p:cNvSpPr/>
          <p:nvPr/>
        </p:nvSpPr>
        <p:spPr>
          <a:xfrm>
            <a:off x="-165240" y="-152280"/>
            <a:ext cx="9610920" cy="7365960"/>
          </a:xfrm>
          <a:prstGeom prst="rect">
            <a:avLst/>
          </a:prstGeom>
          <a:solidFill>
            <a:srgbClr val="53535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chutzringmitHand.png" descr="SchutzringmitHand.png"/>
          <p:cNvPicPr/>
          <p:nvPr/>
        </p:nvPicPr>
        <p:blipFill>
          <a:blip r:embed="rId3"/>
          <a:stretch/>
        </p:blipFill>
        <p:spPr>
          <a:xfrm>
            <a:off x="235080" y="1417680"/>
            <a:ext cx="3286080" cy="3284640"/>
          </a:xfrm>
          <a:prstGeom prst="rect">
            <a:avLst/>
          </a:prstGeom>
          <a:ln w="0">
            <a:noFill/>
          </a:ln>
          <a:effectLst>
            <a:outerShdw dist="11880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inführung MRGN"/>
          <p:cNvSpPr/>
          <p:nvPr/>
        </p:nvSpPr>
        <p:spPr>
          <a:xfrm>
            <a:off x="3657600" y="1986120"/>
            <a:ext cx="5378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Hygiene bei M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atthias Brandt…"/>
          <p:cNvSpPr/>
          <p:nvPr/>
        </p:nvSpPr>
        <p:spPr>
          <a:xfrm>
            <a:off x="3743280" y="4367160"/>
            <a:ext cx="2516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Vortra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Datum, 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  <a:ea typeface="Merriweather Regular"/>
              </a:rPr>
              <a:t>29 Fo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0"/>
          <p:cNvSpPr/>
          <p:nvPr/>
        </p:nvSpPr>
        <p:spPr>
          <a:xfrm>
            <a:off x="179280" y="1547640"/>
            <a:ext cx="8425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mvertrag statt Behandlungsvertr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gzeitiges pflegerisch betreutes Wohnen statt kurzfristige medizinische Inter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Erleben von Gemeinschaft, das Pflegen sozialer Kontakte und die körperliche Nähe gehört zum konzeptionellen Selbstverständnis von Altenpflegeeinrich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ere Abrechenbarkeit medizinischer Leis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chiedene Hausärzte statt ärztliches Behandlungs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208440" y="501480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Arial"/>
              </a:rPr>
              <a:t>Bei MRSA sind in Pflegeheimen andere Hygienemaßnah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Arial"/>
              </a:rPr>
              <a:t>als im Krankenhaus angemessen und notwendig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feld 6"/>
          <p:cNvSpPr/>
          <p:nvPr/>
        </p:nvSpPr>
        <p:spPr>
          <a:xfrm>
            <a:off x="8172360" y="45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cc0000"/>
                </a:solidFill>
                <a:latin typeface="Arial Rounded MT Bold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feld 9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Unterschiede Krankenhaus / Altenheim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179280" y="1547640"/>
            <a:ext cx="842508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Kommission für Krankenhaushygiene und Infektionsprävention beim RKI (KRINK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 zur Prävention und Kontrolle von MRSA in medizinischen und pflegerischen Einrichtungen“ (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1199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Deutsche Gesellschaft für Krankenhaushygiene e. V. (DGKH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einschätzung/-bewertung bei Multiresistenten Erregern in der ambulanten und stationären Kranken- und Altenpflege/ Rehabilitation (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1199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ßnahmenplan beim Auftreten von MRSA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Niedersächsisches Landesgesundheitsam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RSA: Empfehlungen für Alten- und Pflegeeinrichtungen“ (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RSA-Sanierung im niedergelassenen Bereich“ (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Textfeld 4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182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Regelwerk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9"/>
          <p:cNvSpPr/>
          <p:nvPr/>
        </p:nvSpPr>
        <p:spPr>
          <a:xfrm>
            <a:off x="210960" y="5661000"/>
            <a:ext cx="67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Arial"/>
              </a:rPr>
              <a:t>Bei verlässlicher Einhaltung der Basishy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Arial"/>
              </a:rPr>
              <a:t>begrenzt sich die spezielle Hygiene auf wenige Maßna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79280" y="1547640"/>
            <a:ext cx="79218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llgemeine Maßnahmen (Basishygie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hygi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gebungshygi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gienegerechte Durchführung medizinisch-pflegerischer  Maßna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06280" y="3068640"/>
            <a:ext cx="54622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9966"/>
                </a:solidFill>
                <a:latin typeface="Arial"/>
              </a:rPr>
              <a:t>Zusätzliche Maßnahmen (spezielle Hygie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cherung des Informationsflu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hgerechte Unterbringung von MRSA-Träg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nsivierung der Personalhygi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nsivierung der Desinfektionsmaßna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lung und Kontrolle von M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nierung und Therapie von MRSA-Träg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Kreuz 2"/>
          <p:cNvGrpSpPr/>
          <p:nvPr/>
        </p:nvGrpSpPr>
        <p:grpSpPr>
          <a:xfrm>
            <a:off x="8150400" y="3767040"/>
            <a:ext cx="785520" cy="785880"/>
            <a:chOff x="8150400" y="3767040"/>
            <a:chExt cx="785520" cy="785880"/>
          </a:xfrm>
        </p:grpSpPr>
        <p:pic>
          <p:nvPicPr>
            <p:cNvPr id="187" name="Kreuz 2" descr=""/>
            <p:cNvPicPr/>
            <p:nvPr/>
          </p:nvPicPr>
          <p:blipFill>
            <a:blip r:embed="rId1"/>
            <a:stretch/>
          </p:blipFill>
          <p:spPr>
            <a:xfrm>
              <a:off x="8150400" y="3767040"/>
              <a:ext cx="7855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391600" y="3789360"/>
              <a:ext cx="280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Rectangle 10" descr=""/>
          <p:cNvPicPr/>
          <p:nvPr/>
        </p:nvPicPr>
        <p:blipFill>
          <a:blip r:embed="rId2"/>
          <a:stretch/>
        </p:blipFill>
        <p:spPr>
          <a:xfrm>
            <a:off x="7308720" y="1238400"/>
            <a:ext cx="2578320" cy="2711160"/>
          </a:xfrm>
          <a:prstGeom prst="rect">
            <a:avLst/>
          </a:prstGeom>
          <a:ln w="0">
            <a:noFill/>
          </a:ln>
        </p:spPr>
      </p:pic>
      <p:sp>
        <p:nvSpPr>
          <p:cNvPr id="190" name="Textfeld 16"/>
          <p:cNvSpPr/>
          <p:nvPr/>
        </p:nvSpPr>
        <p:spPr>
          <a:xfrm>
            <a:off x="8317080" y="509904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cc0000"/>
                </a:solidFill>
                <a:latin typeface="Arial Rounded MT Bold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rinzipielle Vorgehensweis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Textfeld 9" descr=""/>
          <p:cNvPicPr/>
          <p:nvPr/>
        </p:nvPicPr>
        <p:blipFill>
          <a:blip r:embed="rId3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7"/>
          <p:cNvSpPr/>
          <p:nvPr/>
        </p:nvSpPr>
        <p:spPr>
          <a:xfrm>
            <a:off x="198360" y="1547640"/>
            <a:ext cx="847728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Meldepfli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zelfälle von MRSA sind nicht meldepflicht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RS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79280" y="2637000"/>
            <a:ext cx="86407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gf. Einweisung betreffender Bewohner und weiterer Personen in die entsprechenden Hygieneregeln (speziell Durchführung der Händedesinfek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Meldepflicht und Informationsmanagement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Textfeld 7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"/>
          <p:cNvSpPr/>
          <p:nvPr/>
        </p:nvSpPr>
        <p:spPr>
          <a:xfrm>
            <a:off x="179280" y="1547640"/>
            <a:ext cx="511344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speziellen Überleitungsbogen verw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m Transport Bewohner frisch einkleiden. Kurz vor dem Transport frischer Ver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MRSA-positive Bewohner mit Atemweg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nfektio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und-Nasenschutz (nicht nötig bei Kolonisa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rische Begleitpersonen tragen Schutzhandschuhe und Schutzkit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Zwischenablage-2"/>
          <p:cNvPicPr/>
          <p:nvPr/>
        </p:nvPicPr>
        <p:blipFill>
          <a:blip r:embed="rId1"/>
          <a:stretch/>
        </p:blipFill>
        <p:spPr>
          <a:xfrm>
            <a:off x="5710320" y="1547640"/>
            <a:ext cx="3220920" cy="46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Verlegungen und Transport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feld 7" descr=""/>
          <p:cNvPicPr/>
          <p:nvPr/>
        </p:nvPicPr>
        <p:blipFill>
          <a:blip r:embed="rId2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7"/>
          <p:cNvSpPr/>
          <p:nvPr/>
        </p:nvSpPr>
        <p:spPr>
          <a:xfrm>
            <a:off x="111240" y="1628640"/>
            <a:ext cx="2514600" cy="1219320"/>
          </a:xfrm>
          <a:prstGeom prst="flowChartDecision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RSA-Infe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ene W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v. Zugän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2625840" y="1768320"/>
            <a:ext cx="3085560" cy="914400"/>
            <a:chOff x="2625840" y="1768320"/>
            <a:chExt cx="3085560" cy="914400"/>
          </a:xfrm>
        </p:grpSpPr>
        <p:sp>
          <p:nvSpPr>
            <p:cNvPr id="203" name="AutoShape 9"/>
            <p:cNvSpPr/>
            <p:nvPr/>
          </p:nvSpPr>
          <p:spPr>
            <a:xfrm>
              <a:off x="2892240" y="2073240"/>
              <a:ext cx="609120" cy="304560"/>
            </a:xfrm>
            <a:prstGeom prst="flowChartTerminator">
              <a:avLst/>
            </a:prstGeom>
            <a:solidFill>
              <a:srgbClr val="00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3806640" y="1768320"/>
              <a:ext cx="1904760" cy="914400"/>
            </a:xfrm>
            <a:prstGeom prst="flowChartDecision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zelzi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öglich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AutoShape 11"/>
            <p:cNvCxnSpPr>
              <a:stCxn id="201" idx="3"/>
              <a:endCxn id="203" idx="1"/>
            </p:cNvCxnSpPr>
            <p:nvPr/>
          </p:nvCxnSpPr>
          <p:spPr>
            <a:xfrm flipV="1">
              <a:off x="2625840" y="2224800"/>
              <a:ext cx="267120" cy="13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AutoShape 12"/>
            <p:cNvCxnSpPr>
              <a:stCxn id="203" idx="3"/>
              <a:endCxn id="204" idx="1"/>
            </p:cNvCxnSpPr>
            <p:nvPr/>
          </p:nvCxnSpPr>
          <p:spPr>
            <a:xfrm>
              <a:off x="3501720" y="2225160"/>
              <a:ext cx="305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7" name="Group 13"/>
          <p:cNvGrpSpPr/>
          <p:nvPr/>
        </p:nvGrpSpPr>
        <p:grpSpPr>
          <a:xfrm>
            <a:off x="5711400" y="1916280"/>
            <a:ext cx="2984760" cy="606240"/>
            <a:chOff x="5711400" y="1916280"/>
            <a:chExt cx="2984760" cy="606240"/>
          </a:xfrm>
        </p:grpSpPr>
        <p:sp>
          <p:nvSpPr>
            <p:cNvPr id="208" name="AutoShape 14"/>
            <p:cNvSpPr/>
            <p:nvPr/>
          </p:nvSpPr>
          <p:spPr>
            <a:xfrm>
              <a:off x="5940360" y="2073240"/>
              <a:ext cx="609840" cy="304560"/>
            </a:xfrm>
            <a:prstGeom prst="flowChartTerminator">
              <a:avLst/>
            </a:prstGeom>
            <a:solidFill>
              <a:srgbClr val="00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7020000" y="1916280"/>
              <a:ext cx="1676160" cy="606240"/>
            </a:xfrm>
            <a:prstGeom prst="flowChartProcess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nterbringung 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zelzi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AutoShape 16"/>
            <p:cNvCxnSpPr>
              <a:stCxn id="208" idx="3"/>
              <a:endCxn id="209" idx="1"/>
            </p:cNvCxnSpPr>
            <p:nvPr/>
          </p:nvCxnSpPr>
          <p:spPr>
            <a:xfrm flipV="1">
              <a:off x="6559560" y="2219040"/>
              <a:ext cx="451440" cy="6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AutoShape 17"/>
            <p:cNvCxnSpPr>
              <a:stCxn id="204" idx="3"/>
              <a:endCxn id="208" idx="1"/>
            </p:cNvCxnSpPr>
            <p:nvPr/>
          </p:nvCxnSpPr>
          <p:spPr>
            <a:xfrm>
              <a:off x="5711400" y="222516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2" name="Group 18"/>
          <p:cNvGrpSpPr/>
          <p:nvPr/>
        </p:nvGrpSpPr>
        <p:grpSpPr>
          <a:xfrm>
            <a:off x="4416480" y="2611440"/>
            <a:ext cx="685800" cy="1531440"/>
            <a:chOff x="4416480" y="2611440"/>
            <a:chExt cx="685800" cy="1531440"/>
          </a:xfrm>
        </p:grpSpPr>
        <p:sp>
          <p:nvSpPr>
            <p:cNvPr id="213" name="AutoShape 19"/>
            <p:cNvSpPr/>
            <p:nvPr/>
          </p:nvSpPr>
          <p:spPr>
            <a:xfrm>
              <a:off x="4416480" y="2987280"/>
              <a:ext cx="685800" cy="304560"/>
            </a:xfrm>
            <a:prstGeom prst="flowChartTerminator">
              <a:avLst/>
            </a:prstGeom>
            <a:solidFill>
              <a:srgbClr val="00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AutoShape 20"/>
            <p:cNvCxnSpPr>
              <a:stCxn id="204" idx="2"/>
              <a:endCxn id="213" idx="0"/>
            </p:cNvCxnSpPr>
            <p:nvPr/>
          </p:nvCxnSpPr>
          <p:spPr>
            <a:xfrm>
              <a:off x="4759200" y="2611440"/>
              <a:ext cx="1080" cy="37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AutoShape 21"/>
            <p:cNvCxnSpPr>
              <a:stCxn id="213" idx="2"/>
              <a:endCxn id="216" idx="0"/>
            </p:cNvCxnSpPr>
            <p:nvPr/>
          </p:nvCxnSpPr>
          <p:spPr>
            <a:xfrm>
              <a:off x="4759200" y="3291840"/>
              <a:ext cx="1080" cy="851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22"/>
          <p:cNvGrpSpPr/>
          <p:nvPr/>
        </p:nvGrpSpPr>
        <p:grpSpPr>
          <a:xfrm>
            <a:off x="1025640" y="5210280"/>
            <a:ext cx="4572000" cy="761760"/>
            <a:chOff x="1025640" y="5210280"/>
            <a:chExt cx="4572000" cy="761760"/>
          </a:xfrm>
        </p:grpSpPr>
        <p:sp>
          <p:nvSpPr>
            <p:cNvPr id="218" name="AutoShape 23"/>
            <p:cNvSpPr/>
            <p:nvPr/>
          </p:nvSpPr>
          <p:spPr>
            <a:xfrm>
              <a:off x="1025640" y="5438520"/>
              <a:ext cx="685800" cy="304560"/>
            </a:xfrm>
            <a:prstGeom prst="flowChartTerminator">
              <a:avLst/>
            </a:prstGeom>
            <a:solidFill>
              <a:srgbClr val="00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3921120" y="5210280"/>
              <a:ext cx="1676520" cy="7617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nterbringung 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hrbettzi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ögli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AutoShape 25"/>
            <p:cNvCxnSpPr>
              <a:stCxn id="221" idx="2"/>
              <a:endCxn id="218" idx="0"/>
            </p:cNvCxnSpPr>
            <p:nvPr/>
          </p:nvCxnSpPr>
          <p:spPr>
            <a:xfrm>
              <a:off x="1368360" y="5210280"/>
              <a:ext cx="1080" cy="22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AutoShape 26"/>
            <p:cNvCxnSpPr>
              <a:stCxn id="218" idx="3"/>
              <a:endCxn id="219" idx="1"/>
            </p:cNvCxnSpPr>
            <p:nvPr/>
          </p:nvCxnSpPr>
          <p:spPr>
            <a:xfrm>
              <a:off x="1720800" y="5590440"/>
              <a:ext cx="2191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3" name="Group 27"/>
          <p:cNvGrpSpPr/>
          <p:nvPr/>
        </p:nvGrpSpPr>
        <p:grpSpPr>
          <a:xfrm>
            <a:off x="2701440" y="4143240"/>
            <a:ext cx="2896200" cy="761760"/>
            <a:chOff x="2701440" y="4143240"/>
            <a:chExt cx="2896200" cy="761760"/>
          </a:xfrm>
        </p:grpSpPr>
        <p:sp>
          <p:nvSpPr>
            <p:cNvPr id="224" name="AutoShape 28"/>
            <p:cNvSpPr/>
            <p:nvPr/>
          </p:nvSpPr>
          <p:spPr>
            <a:xfrm>
              <a:off x="2930400" y="4371840"/>
              <a:ext cx="609840" cy="304560"/>
            </a:xfrm>
            <a:prstGeom prst="flowChartTerminator">
              <a:avLst/>
            </a:prstGeom>
            <a:solidFill>
              <a:srgbClr val="00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AutoShape 29"/>
            <p:cNvCxnSpPr>
              <a:stCxn id="221" idx="3"/>
              <a:endCxn id="224" idx="1"/>
            </p:cNvCxnSpPr>
            <p:nvPr/>
          </p:nvCxnSpPr>
          <p:spPr>
            <a:xfrm flipV="1">
              <a:off x="2701440" y="452340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AutoShape 30"/>
            <p:cNvSpPr/>
            <p:nvPr/>
          </p:nvSpPr>
          <p:spPr>
            <a:xfrm>
              <a:off x="3921120" y="4143240"/>
              <a:ext cx="1676520" cy="761760"/>
            </a:xfrm>
            <a:prstGeom prst="flowChartProcess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nterbringung m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eeigne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itbewoh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31"/>
            <p:cNvCxnSpPr>
              <a:stCxn id="224" idx="3"/>
              <a:endCxn id="216" idx="1"/>
            </p:cNvCxnSpPr>
            <p:nvPr/>
          </p:nvCxnSpPr>
          <p:spPr>
            <a:xfrm>
              <a:off x="3540240" y="4523760"/>
              <a:ext cx="381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7" name="Group 32"/>
          <p:cNvGrpSpPr/>
          <p:nvPr/>
        </p:nvGrpSpPr>
        <p:grpSpPr>
          <a:xfrm>
            <a:off x="34920" y="2847600"/>
            <a:ext cx="2666880" cy="2362680"/>
            <a:chOff x="34920" y="2847600"/>
            <a:chExt cx="2666880" cy="2362680"/>
          </a:xfrm>
        </p:grpSpPr>
        <p:grpSp>
          <p:nvGrpSpPr>
            <p:cNvPr id="228" name="Group 33"/>
            <p:cNvGrpSpPr/>
            <p:nvPr/>
          </p:nvGrpSpPr>
          <p:grpSpPr>
            <a:xfrm>
              <a:off x="1025280" y="2847600"/>
              <a:ext cx="685440" cy="533880"/>
              <a:chOff x="1025280" y="2847600"/>
              <a:chExt cx="685440" cy="533880"/>
            </a:xfrm>
          </p:grpSpPr>
          <p:sp>
            <p:nvSpPr>
              <p:cNvPr id="229" name="AutoShape 34"/>
              <p:cNvSpPr/>
              <p:nvPr/>
            </p:nvSpPr>
            <p:spPr>
              <a:xfrm>
                <a:off x="1025280" y="3076560"/>
                <a:ext cx="685440" cy="304920"/>
              </a:xfrm>
              <a:prstGeom prst="flowChartTerminator">
                <a:avLst/>
              </a:prstGeom>
              <a:solidFill>
                <a:srgbClr val="00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e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0" name="AutoShape 35"/>
              <p:cNvCxnSpPr>
                <a:stCxn id="201" idx="2"/>
                <a:endCxn id="229" idx="0"/>
              </p:cNvCxnSpPr>
              <p:nvPr/>
            </p:nvCxnSpPr>
            <p:spPr>
              <a:xfrm>
                <a:off x="1367640" y="2847600"/>
                <a:ext cx="10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231" name="AutoShape 36"/>
            <p:cNvCxnSpPr>
              <a:stCxn id="229" idx="2"/>
              <a:endCxn id="221" idx="0"/>
            </p:cNvCxnSpPr>
            <p:nvPr/>
          </p:nvCxnSpPr>
          <p:spPr>
            <a:xfrm>
              <a:off x="1368000" y="3390840"/>
              <a:ext cx="1080" cy="43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AutoShape 37"/>
            <p:cNvSpPr/>
            <p:nvPr/>
          </p:nvSpPr>
          <p:spPr>
            <a:xfrm>
              <a:off x="34920" y="3838680"/>
              <a:ext cx="2666880" cy="1371600"/>
            </a:xfrm>
            <a:prstGeom prst="flowChartDecision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at Mitbew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temwegsinf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ene Wun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v. Zugäng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8"/>
          <p:cNvSpPr/>
          <p:nvPr/>
        </p:nvSpPr>
        <p:spPr>
          <a:xfrm>
            <a:off x="5711760" y="2708280"/>
            <a:ext cx="3249720" cy="34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Isolierung wie im Krankenhaus. Teilnah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m Gemeinschaftsleben is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bringung wird dem Risiko angepasst, welches vom MRSA-positiven Bewohner ausgeht, bzw. welches für die Mitbewohner beste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ehreren MRSA-Trägern ist eine Zusammenlegung sinnvo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Textfeld 35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34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Unterbringu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9"/>
          <p:cNvSpPr/>
          <p:nvPr/>
        </p:nvSpPr>
        <p:spPr>
          <a:xfrm>
            <a:off x="179280" y="2274840"/>
            <a:ext cx="592452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m Dienstbeginn und zum Dienst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septisch durchzuführenden Arb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Kontakt mit infektionsgefährdeten Bewohn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Kontakt mit Wunden, Tracheostoma, PEG etc. (auch wenn dabei Handschuhe getragen wur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Kontakt mit potentiell infektiösen Materialien (z.B. nach der Mundpflege, Inkontinenzversorgung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Toilettengang, Naseputze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3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4"/>
          <p:cNvSpPr/>
          <p:nvPr/>
        </p:nvSpPr>
        <p:spPr>
          <a:xfrm>
            <a:off x="6103800" y="190188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6156360" y="2274840"/>
            <a:ext cx="281952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Betreuung von MRSA-positiven Bewohnern durch uneingewiesenes Personal oder Perso-nen mit chronischen Hautveränder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ändedesinfektion auch nach sonstigen Kontakten mit MRSA-positiven Bewohnern oder MRSA-kontami-nierten Materiali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Rectangle 10" descr=""/>
          <p:cNvPicPr/>
          <p:nvPr/>
        </p:nvPicPr>
        <p:blipFill>
          <a:blip r:embed="rId1"/>
          <a:stretch/>
        </p:blipFill>
        <p:spPr>
          <a:xfrm>
            <a:off x="2004840" y="938160"/>
            <a:ext cx="1970280" cy="2086200"/>
          </a:xfrm>
          <a:prstGeom prst="rect">
            <a:avLst/>
          </a:prstGeom>
          <a:ln w="0">
            <a:noFill/>
          </a:ln>
        </p:spPr>
      </p:pic>
      <p:grpSp>
        <p:nvGrpSpPr>
          <p:cNvPr id="240" name="Kreuz 9"/>
          <p:cNvGrpSpPr/>
          <p:nvPr/>
        </p:nvGrpSpPr>
        <p:grpSpPr>
          <a:xfrm>
            <a:off x="7284960" y="1390680"/>
            <a:ext cx="785880" cy="785880"/>
            <a:chOff x="7284960" y="1390680"/>
            <a:chExt cx="785880" cy="785880"/>
          </a:xfrm>
        </p:grpSpPr>
        <p:pic>
          <p:nvPicPr>
            <p:cNvPr id="241" name="Kreuz 9" descr=""/>
            <p:cNvPicPr/>
            <p:nvPr/>
          </p:nvPicPr>
          <p:blipFill>
            <a:blip r:embed="rId2"/>
            <a:stretch/>
          </p:blipFill>
          <p:spPr>
            <a:xfrm>
              <a:off x="7284960" y="139068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27960" y="1413000"/>
              <a:ext cx="280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Textfeld 10" descr=""/>
          <p:cNvPicPr/>
          <p:nvPr/>
        </p:nvPicPr>
        <p:blipFill>
          <a:blip r:embed="rId3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44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ersonalhygiene I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6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6105600" y="1900080"/>
            <a:ext cx="0" cy="449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95120" y="2284560"/>
            <a:ext cx="592452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 (PSA), d.h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 (z.B. Intimpfle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ile Handschuhe bei aseptisch durchzufüh-renden Arbeiten (z.B. Verbandwechs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 (z.B. Versorgung Inkontinen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472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 (z.B. Absaugen der Atemwe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2284560"/>
            <a:ext cx="2879640" cy="31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endung von zimmergebundenen, täglich zu wechseln-den, langärmligen Schutzkitteln bei 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rischen Versorgung und bei Körperkontak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endung von Mund- Nasenschutz-masken auch bei der Mundpfle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Rectangle 10" descr=""/>
          <p:cNvPicPr/>
          <p:nvPr/>
        </p:nvPicPr>
        <p:blipFill>
          <a:blip r:embed="rId1"/>
          <a:stretch/>
        </p:blipFill>
        <p:spPr>
          <a:xfrm>
            <a:off x="2004840" y="938160"/>
            <a:ext cx="1970280" cy="2086200"/>
          </a:xfrm>
          <a:prstGeom prst="rect">
            <a:avLst/>
          </a:prstGeom>
          <a:ln w="0">
            <a:noFill/>
          </a:ln>
        </p:spPr>
      </p:pic>
      <p:grpSp>
        <p:nvGrpSpPr>
          <p:cNvPr id="250" name="Kreuz 12"/>
          <p:cNvGrpSpPr/>
          <p:nvPr/>
        </p:nvGrpSpPr>
        <p:grpSpPr>
          <a:xfrm>
            <a:off x="7284960" y="1390680"/>
            <a:ext cx="785880" cy="785880"/>
            <a:chOff x="7284960" y="1390680"/>
            <a:chExt cx="785880" cy="785880"/>
          </a:xfrm>
        </p:grpSpPr>
        <p:pic>
          <p:nvPicPr>
            <p:cNvPr id="251" name="Kreuz 12" descr=""/>
            <p:cNvPicPr/>
            <p:nvPr/>
          </p:nvPicPr>
          <p:blipFill>
            <a:blip r:embed="rId2"/>
            <a:stretch/>
          </p:blipFill>
          <p:spPr>
            <a:xfrm>
              <a:off x="7284960" y="139068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527960" y="1413000"/>
              <a:ext cx="280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Textfeld 9" descr=""/>
          <p:cNvPicPr/>
          <p:nvPr/>
        </p:nvPicPr>
        <p:blipFill>
          <a:blip r:embed="rId3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ersonalhygiene II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5"/>
          <p:cNvSpPr/>
          <p:nvPr/>
        </p:nvSpPr>
        <p:spPr>
          <a:xfrm>
            <a:off x="304920" y="1547640"/>
            <a:ext cx="829944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Nach wie vor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Tragen von PSA erfolgt immer situativ. D.h. sie wird kurz vor der Maßnahme angelegt und unmittelbar nach erfolgter Maßnahme bzw. Situation wieder ab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ntsorgung von PSA erfolgt am Ort ihres Gebrauc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4"/>
          <p:cNvSpPr/>
          <p:nvPr/>
        </p:nvSpPr>
        <p:spPr>
          <a:xfrm>
            <a:off x="8101080" y="164304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cc0000"/>
                </a:solidFill>
                <a:latin typeface="Arial Rounded MT Bold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feld 5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58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ersonalhygiene III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8"/>
          <p:cNvSpPr/>
          <p:nvPr/>
        </p:nvSpPr>
        <p:spPr>
          <a:xfrm>
            <a:off x="179280" y="2359080"/>
            <a:ext cx="592452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infektion auch nach Kontamination (Blut, Erbrochenes, Fäz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34040" y="2286000"/>
            <a:ext cx="300996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mmer von MRSA-positiven Bewohnern werden stets zum Schluss und mit frischen Utensilien und Lösungen gerein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-melt und sollen das Zimmer nur in geschlossenen Säcken ver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nur 60° Wäsche verw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ck und Geschirr mögl. zum Schluss abräu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ische Arbeiten im Zimmer und mögl. zum Schluss durch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6105600" y="1900080"/>
            <a:ext cx="0" cy="449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Rectangle 10" descr=""/>
          <p:cNvPicPr/>
          <p:nvPr/>
        </p:nvPicPr>
        <p:blipFill>
          <a:blip r:embed="rId1"/>
          <a:stretch/>
        </p:blipFill>
        <p:spPr>
          <a:xfrm>
            <a:off x="2004840" y="938160"/>
            <a:ext cx="1970280" cy="2086200"/>
          </a:xfrm>
          <a:prstGeom prst="rect">
            <a:avLst/>
          </a:prstGeom>
          <a:ln w="0">
            <a:noFill/>
          </a:ln>
        </p:spPr>
      </p:pic>
      <p:grpSp>
        <p:nvGrpSpPr>
          <p:cNvPr id="264" name="Kreuz 11"/>
          <p:cNvGrpSpPr/>
          <p:nvPr/>
        </p:nvGrpSpPr>
        <p:grpSpPr>
          <a:xfrm>
            <a:off x="7284960" y="1390680"/>
            <a:ext cx="785880" cy="785880"/>
            <a:chOff x="7284960" y="1390680"/>
            <a:chExt cx="785880" cy="785880"/>
          </a:xfrm>
        </p:grpSpPr>
        <p:pic>
          <p:nvPicPr>
            <p:cNvPr id="265" name="Kreuz 11" descr=""/>
            <p:cNvPicPr/>
            <p:nvPr/>
          </p:nvPicPr>
          <p:blipFill>
            <a:blip r:embed="rId2"/>
            <a:stretch/>
          </p:blipFill>
          <p:spPr>
            <a:xfrm>
              <a:off x="7284960" y="139068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527960" y="1413000"/>
              <a:ext cx="280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Textfeld 9" descr=""/>
          <p:cNvPicPr/>
          <p:nvPr/>
        </p:nvPicPr>
        <p:blipFill>
          <a:blip r:embed="rId3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68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aßnahmen bei 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Umgebungshygiene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26"/>
          <p:cNvSpPr/>
          <p:nvPr/>
        </p:nvSpPr>
        <p:spPr>
          <a:xfrm>
            <a:off x="2858760" y="1440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rundlagen…"/>
          <p:cNvSpPr/>
          <p:nvPr/>
        </p:nvSpPr>
        <p:spPr>
          <a:xfrm>
            <a:off x="179280" y="1547640"/>
            <a:ext cx="615312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griffe und Grund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RSA Eigenscha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RSA Sach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RSA Maß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9"/>
          <p:cNvSpPr/>
          <p:nvPr/>
        </p:nvSpPr>
        <p:spPr>
          <a:xfrm>
            <a:off x="179280" y="1547640"/>
            <a:ext cx="857880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 MRSA-Sanierung (auch MRSA-Eradikation oder –Eliminierung genannt) bezeichnet man die Entfernung von MRSA mit Hilfe antibiotischer und antiseptischer Substanzen von Häuten, Schleimhäuten und Wundflä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Sanierung umfas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cherung von Ausgangsbefu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ung der Sanierungshandlung (5 T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use (mind. 3 T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1199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rollabstri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1199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urchführung der Sanierung außerhalb von Krankenhäusern richtet sich nach den aktuellen Vorgaben der jeweiligen Kassenärztlichen Vereinig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aillierte Informationen u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mrsa-netzwerke.niedersachsen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www.kbv.de/404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feld 4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71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Begriffserläuterung und Prinzip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179280" y="154764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A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Screen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eig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gangsbefu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B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Behand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5 Tag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Nasensal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antisept. Mund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antisept. Ganzwa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begleitende 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C / mind. 3 Tage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D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Tg. bis 4 W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E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Mo. bis 6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Mo. bis 13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F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Fre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nd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Textfeld 4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74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Sanierungsschema und Phas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4500720" y="1547640"/>
            <a:ext cx="431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jedem sanierungshemmenden Faktor sinkt die Sanierungseign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alysepflicht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vasive Zugänge (Harndrainage, PEG, Tracheostoma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antibiotische Therap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tulkus, Haut- und Weichgewebeinfek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opisches Ekzem, Psoriasi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ene (sezernierende) W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eruflich) direkter Kontakt zu Tieren in der landwirtschaftlichen Tierm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keine verwertbaren Klinikbefunde vorliegen müssen Ausgangsbefunde gesichert wer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chen-Nasenabstrich (1 Tupf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Wundabstrich (Insertions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Urinbef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icht jeder MRSA-positive Bewohner ist für eine MRSA-Sanierung geeig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79280" y="154764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A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Screen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eig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gangsbefu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B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Behand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5 Tag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Nasensal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antisept. Mund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antisept. Ganzwa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begleitende 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C / mind. 3 Tage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D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Tg. bis 4 W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E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Mo. bis 6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Mo. bis 13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F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Fre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nd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1"/>
          <p:cNvSpPr/>
          <p:nvPr/>
        </p:nvSpPr>
        <p:spPr>
          <a:xfrm>
            <a:off x="108000" y="2421000"/>
            <a:ext cx="4464000" cy="388764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xtfeld 7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80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hase 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179280" y="154764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A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Screen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eig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gangsbefu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B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Behand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5 Tag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Nasensal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antisept. Mund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antisept. Ganzwa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begleitende 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C / mind. 3 Tage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D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Tg. bis 4 W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E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Mo. bis 6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Mo. bis 13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F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Fre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nd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57040" y="3860640"/>
            <a:ext cx="3961080" cy="244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250920" y="1555920"/>
            <a:ext cx="3960720" cy="86508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00720" y="1557360"/>
            <a:ext cx="44956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erialbeschaf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ung der 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kation Nasensalbe (3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iseptische Mundpflege (3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iseptische Ganzwaschung (1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Maßnahmen (1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Ganzwaschung Patient mit frischer Leibwäsche einkl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t vor erneuter Benutzung komplett frisch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e Utensilien, wie Waschschalen oder Kämme desinfiz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ereitung benutzter Textilien mögl. bei 60°C oder hö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Desinfektion der Umge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sonalhygiernische Maßna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Textfeld 7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hase B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179280" y="154764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A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Screen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eig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gangsbefu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B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Behand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5 Tag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Nasensal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antisept. Mund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antisept. Ganzwa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begleitende 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C / mind. 3 Tage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D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Tg. bis 4 W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E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Mo. bis 6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Mo. bis 13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F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Fre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nd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50920" y="1411200"/>
            <a:ext cx="3960720" cy="244944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500720" y="1547640"/>
            <a:ext cx="4643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rhalb der Pause erfolgen keine Behandlungsmaßnah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betreffende Bewohner gilt in dieser Zeit zumindest bis zum Vorliegen des ersten Kontrollabstrichs weiterhin als MRSA-posit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79280" y="4219560"/>
            <a:ext cx="3961080" cy="216216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Textfeld 7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92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hase C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179280" y="154764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A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Screen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eig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gangsbefu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B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Behand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5 Tag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Nasensal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antisept. Mund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antisept. Ganzwa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begleitende 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C / mind. 3 Tage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D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Tg. bis 4 W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E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Mo. bis 6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Mo. bis 13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F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Fre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nd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50920" y="1411200"/>
            <a:ext cx="3960720" cy="28098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4500720" y="1547640"/>
            <a:ext cx="4643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striche der Erfolgskontrollen (insgesamt 3 Termine) analog zu den Ausgangsbefu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chen-Nasenabstrich (1 Tupf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Wundabstrich (Insertions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Urinbef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striche negativ: Pat. = vorläufig MRSA-frei. Vorerst Einstellung der besonderen Hygienemaßna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3 Erfolgskontrollen negativ: Pat. = dauerhaft MRSA-fr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Aufnahme in ein Krankenhaus ist dennoch darauf hinzuweisen, dass eine positive MRSA-Anamnese vor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Textfeld 7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Phasen D - F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179280" y="154764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A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Screen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eig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gangsbefu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B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Behand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5 Tag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Nasensal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x tgl. antisept. Mund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antisept. Ganzwas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4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x tgl. begleitende Maßna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C / mind. 3 Tage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D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Tg. bis 4 W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E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Erfolgskontrolle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Mo. bis 6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Mo. bis 13 Mo. nach Phas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ase F / </a:t>
            </a:r>
            <a:r>
              <a:rPr b="0" lang="de-DE" sz="1800" spc="-1" strike="noStrike">
                <a:solidFill>
                  <a:srgbClr val="067ebb"/>
                </a:solidFill>
                <a:latin typeface="Arial"/>
              </a:rPr>
              <a:t>Fre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end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50920" y="1413000"/>
            <a:ext cx="3960720" cy="489564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500720" y="1547640"/>
            <a:ext cx="4643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führung bzw. Wiederaufnahme der besonderen Hygienemaßna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eiteren Kontrollabstri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ung einer weiteren Sanier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ern keine sanierungshemmenden Faktoren vorliegen bz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ern eine plausible Ursache für den Misserfolg ermittelt und beseitigt werden kon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tl. nach Sanierungsbehandlung von Kontaktpers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äufige Gründe für Misserfol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nierungshemmende Faktoren bei Behandlungsbegi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kolonisation durch inkonsequentes Vorgehen, Kontaktpersonen oder Tätigkeit in Landwirtscha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9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besiedelung mit neuem M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extfeld 6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302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-Sa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Vorgehen bei positiven Kontrollabstrich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PEOPL087"/>
          <p:cNvPicPr/>
          <p:nvPr/>
        </p:nvPicPr>
        <p:blipFill>
          <a:blip r:embed="rId1"/>
          <a:stretch/>
        </p:blipFill>
        <p:spPr>
          <a:xfrm>
            <a:off x="4230720" y="1197000"/>
            <a:ext cx="4913280" cy="5105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PEOPL086"/>
          <p:cNvPicPr/>
          <p:nvPr/>
        </p:nvPicPr>
        <p:blipFill>
          <a:blip r:embed="rId2"/>
          <a:stretch/>
        </p:blipFill>
        <p:spPr>
          <a:xfrm>
            <a:off x="0" y="1506600"/>
            <a:ext cx="4281480" cy="4875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0"/>
          <p:cNvSpPr/>
          <p:nvPr/>
        </p:nvSpPr>
        <p:spPr>
          <a:xfrm>
            <a:off x="287640" y="1477800"/>
            <a:ext cx="35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Heutzutage haben mehr als 20% der</a:t>
            </a:r>
            <a:br>
              <a:rPr sz="1600"/>
            </a:b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Allgemeinbevölkerung MRSA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282600" y="2316240"/>
            <a:ext cx="375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MRSA-Träger sollten im Heim nicht am Gemeinschaftsleben teilnehmen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282600" y="3443400"/>
            <a:ext cx="406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Bei MRSA-Trägern sollten regelmäßig Kontrollabstriche durchgeführt werden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282600" y="4497480"/>
            <a:ext cx="383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Jede Pflegekraft ist im hohen Maße gefährdet selbst MRSA-Träger zu werden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4626000" y="1413000"/>
            <a:ext cx="42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Es stimmt, dass ca. 20% Staphylococcus aureus-Träger sind, was aber nicht gleichbedeutend mit MRSA is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4626000" y="2251080"/>
            <a:ext cx="444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Schon auf Grund des Heimvertrages kann die Teilnahme nicht einfach versagt werden. Über-tragen wird vor allem durch pflegerische und weniger durch gesellschaftliche Kontak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4626000" y="3362400"/>
            <a:ext cx="436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Bringt keinen Informationsgewinn. Wenn sich ein Bewohner als MRSA-Träger erwiesen hat ist nicht anzunehmen, dass er diesen Status ohne eine Sanierung verliert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4626000" y="4460760"/>
            <a:ext cx="451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Ein Unterschied zur Allgemeinbevölkerung ist vorhanden aber gering. Maßgeblich ist der indikationsgerechte Gebrauch von PSA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282600" y="5411880"/>
            <a:ext cx="383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336600"/>
                </a:solidFill>
                <a:latin typeface="Arial"/>
              </a:rPr>
              <a:t>Durch meinen Umgang mit MRSA-positiven Bewohnern gefährde ich meine Kinder und weitere Angehörige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4626000" y="5299200"/>
            <a:ext cx="467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990033"/>
                </a:solidFill>
                <a:latin typeface="Arial"/>
              </a:rPr>
              <a:t>Normalerweise nicht. Eine Gefährdung wäre denkbar, wenn man selbst MRSA-Träger ist und risikobehaftete Angehörige betreut. Kinder gehören normalerweise nicht daz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Zum Schlu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Häufige Irrtümer zu MRS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light-sign-typography-lighting.jpg" descr="light-sign-typography-lighting.jpg"/>
          <p:cNvPicPr/>
          <p:nvPr/>
        </p:nvPicPr>
        <p:blipFill>
          <a:blip r:embed="rId1"/>
          <a:stretch/>
        </p:blipFill>
        <p:spPr>
          <a:xfrm>
            <a:off x="-108000" y="1004760"/>
            <a:ext cx="9252000" cy="537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167840" y="162864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Erreichung des QZ 10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MRSA“ (QZ 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QSED-Logos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179280" y="3500280"/>
            <a:ext cx="849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Unter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dentflora = die natürlicherweise vorhandenen Mikroorganis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ientflora = eine in ihrer arten- &amp; mengenmäßigen Zusammensetzung veränderte Fl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79280" y="1547640"/>
            <a:ext cx="85694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Begriffsdeu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 Flora bezeichnet man die natürlicherweise vorhandene Keimbesiedelung des Kör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Flora ist auf der Haut, im Nasen-Rachenraum, im Darm und in der Vagina vorha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Textfeld 5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  <p:sp>
        <p:nvSpPr>
          <p:cNvPr id="141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Bedeutung der Fl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Begriffsdeutung und Unterscheidu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79280" y="1547640"/>
            <a:ext cx="50342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Floraanteile können infizie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sie an Orte verschleppt werden, wo sie nicht hingehören (z.B. Katheterisieru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sie sich in ihrer natürlichen Zusammensetzung verändern (z.B. auf Grund von Medikament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das Immunsystem der betreffenden Person nicht intakt ist (z.B. als Folge einer Krebstherap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künstliche Eintrittspforten vorhanden sind  (z.B. Tracheosto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5213520" y="1916280"/>
            <a:ext cx="3682440" cy="2736720"/>
            <a:chOff x="5213520" y="1916280"/>
            <a:chExt cx="3682440" cy="2736720"/>
          </a:xfrm>
        </p:grpSpPr>
        <p:sp>
          <p:nvSpPr>
            <p:cNvPr id="144" name="AutoShape 6"/>
            <p:cNvSpPr/>
            <p:nvPr/>
          </p:nvSpPr>
          <p:spPr>
            <a:xfrm>
              <a:off x="5213520" y="1916280"/>
              <a:ext cx="345600" cy="2736720"/>
            </a:xfrm>
            <a:custGeom>
              <a:avLst/>
              <a:gdLst>
                <a:gd name="textAreaLeft" fmla="*/ 0 w 345600"/>
                <a:gd name="textAreaRight" fmla="*/ 124920 w 345600"/>
                <a:gd name="textAreaTop" fmla="*/ 29880 h 2736720"/>
                <a:gd name="textAreaBottom" fmla="*/ 27068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80"/>
                    <a:pt x="10800" y="759"/>
                  </a:cubicBezTo>
                  <a:lnTo>
                    <a:pt x="10800" y="10041"/>
                  </a:lnTo>
                  <a:cubicBezTo>
                    <a:pt x="10800" y="10421"/>
                    <a:pt x="16200" y="10800"/>
                    <a:pt x="21600" y="10800"/>
                  </a:cubicBezTo>
                  <a:cubicBezTo>
                    <a:pt x="16200" y="10800"/>
                    <a:pt x="10800" y="11180"/>
                    <a:pt x="10800" y="11559"/>
                  </a:cubicBezTo>
                  <a:lnTo>
                    <a:pt x="10800" y="20841"/>
                  </a:lnTo>
                  <a:cubicBezTo>
                    <a:pt x="10800" y="2122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744880" y="2268360"/>
              <a:ext cx="3151080" cy="20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äufige Sachverhal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i alten und pflegeab-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ängigen Mensch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e Flora dieser Person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spricht daher oft nicht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r natürlichen Residentflora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1"/>
          <p:cNvSpPr/>
          <p:nvPr/>
        </p:nvSpPr>
        <p:spPr>
          <a:xfrm>
            <a:off x="179280" y="5157720"/>
            <a:ext cx="9144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en können durch eigene und durch fremde Floraanteile verursach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meint sind Bakterien wie Staphylococcus aureus, Pseudomonas aeruginosa oder Escherischia co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Bedeutung der Fl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Infektionsmöglichkeit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Textfeld 11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1547640"/>
            <a:ext cx="604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Staphylokok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sich in Haufen anlagernde, kugelförmige Bakter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den wichtigsten Arten gehö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phylococcus au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phylococcus epidermi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phylococcus saprophyt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52280" y="3500280"/>
            <a:ext cx="899172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Staphylococcus au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kunft: Transientflora von Mensch &amp; Tier aber auch kontaminierte Material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bust gegen Austrocknung, auf Flächen lange lebensfähig aber gut desinfizier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 durch Kontakte, Lebensmittel, Atemtröpfche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n Kolonisationen (d. h. symptomlose Besiedelungen), Lebensmittelvergiftungen und verschiedene Infektionen, wie z. B. Abszesse verursa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äufiger Erreger von sog. „Krankenhausinfektionen“ im Zusammenhang mit medizinischen Eingriffen (z. B. Operation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Staphylococcus aureus gibt es verschiedene Varianten (sog. „Stämme“). Einer dieser Stämme ist M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mrsa-bild"/>
          <p:cNvPicPr/>
          <p:nvPr/>
        </p:nvPicPr>
        <p:blipFill>
          <a:blip r:embed="rId1"/>
          <a:stretch/>
        </p:blipFill>
        <p:spPr>
          <a:xfrm>
            <a:off x="6637320" y="1547640"/>
            <a:ext cx="2325600" cy="1640160"/>
          </a:xfrm>
          <a:prstGeom prst="rect">
            <a:avLst/>
          </a:prstGeom>
          <a:ln w="0">
            <a:noFill/>
          </a:ln>
        </p:spPr>
      </p:pic>
      <p:sp>
        <p:nvSpPr>
          <p:cNvPr id="152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Staphylococcus au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Bedeutung als Krankheitserreger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feld 9" descr=""/>
          <p:cNvPicPr/>
          <p:nvPr/>
        </p:nvPicPr>
        <p:blipFill>
          <a:blip r:embed="rId2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mrsa-bild"/>
          <p:cNvPicPr/>
          <p:nvPr/>
        </p:nvPicPr>
        <p:blipFill>
          <a:blip r:embed="rId1"/>
          <a:stretch/>
        </p:blipFill>
        <p:spPr>
          <a:xfrm>
            <a:off x="6678720" y="1547640"/>
            <a:ext cx="2325600" cy="1640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182520" y="1547640"/>
            <a:ext cx="177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MRS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hic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ist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phyl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198880" y="1547640"/>
            <a:ext cx="177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ORS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ac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ist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phyl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67ebb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142520" y="20350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67ebb"/>
                </a:solidFill>
                <a:latin typeface="Arial"/>
              </a:rPr>
              <a:t>MRSA = O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79280" y="3435480"/>
            <a:ext cx="891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RSA bzw. ORSA sind Stämme von Staphylococcus aur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kunft, Robustheit, Übertragung, Desinfektionsfähigkeit und Auswirkungen wie bei anderen Staphylococcus aureus-Stä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normalerweise gegen Staphylococcus aureus einsetzbaren Medikamente (Antibiotika) wirken nicht bei MRSA. Man spricht von „Multiresistenz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Infektionsfall müssen also besondere Medikamente (Reserveantibiotika) eingesetzt werden, so dass die Auswahl stark eingeschränk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Begriffsdeutu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Textfeld 10" descr=""/>
          <p:cNvPicPr/>
          <p:nvPr/>
        </p:nvPicPr>
        <p:blipFill>
          <a:blip r:embed="rId2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0"/>
          <p:cNvSpPr/>
          <p:nvPr/>
        </p:nvSpPr>
        <p:spPr>
          <a:xfrm>
            <a:off x="179280" y="1547640"/>
            <a:ext cx="8229600" cy="151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179280" y="1547640"/>
            <a:ext cx="83059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MRSA bzw. haMRSA (Hospital acquir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treten in Krankenhäusern &amp; Pflegeeinrichtungen, dort weit verbrei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finität zu chronischen Wunden, invasiven Zugängen (z. B. Katheter), pflegebedürftigen, behinderten &amp; hinfälligen Pers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ursacht eher Kolonisationen als Infekti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179280" y="4290840"/>
            <a:ext cx="8686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MRSA bzw. caMRSA bzw. PVL-MRSA (Community acquir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treten unabhängig von Krankenhäusern &amp; Pflegeeinrichtungen innerhalb der Allgemeinbevölkerung mit Tendenz zum epidemischen Auftr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ätzlicher Krankheitsfaktor: Panton-Valentine-Leukozidin = PV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n schwere Pneumonien und Abszesse verursa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lang relativ wenige Fälle in 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eck 1"/>
          <p:cNvSpPr/>
          <p:nvPr/>
        </p:nvSpPr>
        <p:spPr>
          <a:xfrm>
            <a:off x="250920" y="3220920"/>
            <a:ext cx="8353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MRSA bzw. laMRSA (livestock associat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treten im Zusammenhang mit der Nutrztierhaltung (z. B. Schwe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genschaften ähnlich wie hM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Unterscheidung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extfeld 9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3"/>
          <p:cNvSpPr/>
          <p:nvPr/>
        </p:nvSpPr>
        <p:spPr>
          <a:xfrm>
            <a:off x="179280" y="1547640"/>
            <a:ext cx="86868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RSA in Altenpflegeeinrichtungen handelt es sich fast immer um hMRSA. Folgende Sachlagen sind bei den MRSA-positiven Bewohnern ty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liegt eine MRSA-Kolonisation aber keine Infektion vor. Der MRSA-positive Bewohner ist also nicht krank, sondern nur besiedelt (oft unerkan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MRSA-positive Bewohner ist stark pflegebedürftig und weist chronische Wunden (z. B. „diabetischer Fuß“) und / oder invasive Zugänge (z. B. Harnkatheter)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MRSA-Kolonisation wurde im Krankenhaus festgestellt (Screening), bestand aber schon vor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ch für die Mitbewohner und für das Personal besteht i. d. R. durch MRSA keine Erkrankungsgefah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RSA kann aber in den verschiedene Einrichtungen des Gesundheitswesens vor allem durch Kontakte im Zuge medizinisch-pflegerischer Maßnahmen weitergege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067e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273960" y="5676840"/>
            <a:ext cx="79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Arial"/>
              </a:rPr>
              <a:t>Das Vorhandensein von MRSA (Kolonisation) ist nicht gleichbedeutend</a:t>
            </a:r>
            <a:br>
              <a:rPr sz="1800"/>
            </a:br>
            <a:r>
              <a:rPr b="1" lang="de-DE" sz="1800" spc="-1" strike="noStrike">
                <a:solidFill>
                  <a:srgbClr val="cc0000"/>
                </a:solidFill>
                <a:latin typeface="Arial"/>
              </a:rPr>
              <a:t>mit einem Krankheitszustand (Infek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8"/>
          <p:cNvSpPr/>
          <p:nvPr/>
        </p:nvSpPr>
        <p:spPr>
          <a:xfrm>
            <a:off x="8244000" y="501336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cc0000"/>
                </a:solidFill>
                <a:latin typeface="Arial Rounded MT Bold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Sachlagen in Altenpflegeeinrichtung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feld 10" descr=""/>
          <p:cNvPicPr/>
          <p:nvPr/>
        </p:nvPicPr>
        <p:blipFill>
          <a:blip r:embed="rId1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Grafik 1" descr=""/>
          <p:cNvPicPr/>
          <p:nvPr/>
        </p:nvPicPr>
        <p:blipFill>
          <a:blip r:embed="rId1"/>
          <a:stretch/>
        </p:blipFill>
        <p:spPr>
          <a:xfrm>
            <a:off x="2268360" y="1471680"/>
            <a:ext cx="5002560" cy="4797360"/>
          </a:xfrm>
          <a:prstGeom prst="rect">
            <a:avLst/>
          </a:prstGeom>
          <a:ln w="0">
            <a:noFill/>
          </a:ln>
        </p:spPr>
      </p:pic>
      <p:sp>
        <p:nvSpPr>
          <p:cNvPr id="173" name="Bedeutung der Flora"/>
          <p:cNvSpPr/>
          <p:nvPr/>
        </p:nvSpPr>
        <p:spPr>
          <a:xfrm>
            <a:off x="2916360" y="0"/>
            <a:ext cx="5759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Merriweather Bold"/>
              </a:rPr>
              <a:t>M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erriweather Bold"/>
              </a:rPr>
              <a:t>Verbreitungsfaktoren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Textfeld 7" descr=""/>
          <p:cNvPicPr/>
          <p:nvPr/>
        </p:nvPicPr>
        <p:blipFill>
          <a:blip r:embed="rId2"/>
          <a:stretch/>
        </p:blipFill>
        <p:spPr>
          <a:xfrm>
            <a:off x="249120" y="987480"/>
            <a:ext cx="8718840" cy="37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Brandt, K (mmb)</cp:lastModifiedBy>
  <dcterms:modified xsi:type="dcterms:W3CDTF">2018-01-24T10:01:04Z</dcterms:modified>
  <cp:revision>102</cp:revision>
  <dc:subject/>
  <dc:title>Kein Folientitel</dc:title>
</cp:coreProperties>
</file>